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84B-2730-43F4-A6B8-CDA48E49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7AD-AE37-48F1-8D74-177DF515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EC4-C1DF-4326-8D63-F2AF62C5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19F-286D-4AF7-A829-23596C48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744-8506-4A4F-B579-C301CF69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506-F046-466C-9B27-A1ECA07B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881-0466-4FD0-91C7-59E603A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C71-81C7-4488-95E2-FB75CC48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F1A-8DA8-48BF-9303-A78518B4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8EE-31CF-4AD8-A636-3B70DFB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51E-30C8-48E4-A85D-B9E17ED3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DFA-1F8B-40AD-9962-25C8599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A853F-E420-4149-8E7D-2DE5F0E80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70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2-03-07T00:19:23Z</dcterms:modified>
  <cp:revision>4</cp:revision>
  <dc:subject/>
  <dc:title>PowerPoint Presentation</dc:title>
</cp:coreProperties>
</file>