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12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6.jpeg" ContentType="image/jpeg"/>
  <Override PartName="/ppt/media/image20.png" ContentType="image/png"/>
  <Override PartName="/ppt/media/image44.png" ContentType="image/png"/>
  <Override PartName="/ppt/media/image45.jpeg" ContentType="image/jpeg"/>
  <Override PartName="/ppt/media/image13.png" ContentType="image/png"/>
  <Override PartName="/ppt/media/image8.png" ContentType="image/png"/>
  <Override PartName="/ppt/media/image18.png" ContentType="image/png"/>
  <Override PartName="/ppt/media/image6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C847-9F8B-4812-A973-6DDBB5BA2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61A4-B2C2-4278-A92C-4696B0129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al Church Assess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</a:t>
            </a:r>
            <a:fld id="{72E5F06B-BCB8-4EC7-AC95-14B6223F0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al Church Assess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</a:t>
            </a:r>
            <a:fld id="{A44324E3-7613-455D-BAD1-37501AA82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al Church Assess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</a:t>
            </a:r>
            <a:fld id="{FF52C15A-218B-4F14-808B-51AAC96AF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CA3D-89BB-499D-B318-D089AE0C2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2B65-E207-4112-8E45-94C09EFFD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30BF-78F4-4643-85AB-12415716C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0720" y="7621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4C1A-1410-4FC1-95BA-2318253A0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09FC-72F9-4B93-A71C-71858C9C2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76DF-8658-4F6A-98D4-08678C9C6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C85A-6DE6-4671-9A86-5842C2150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B775-C9CE-4D3A-A424-6D5B9DC2F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al Church Assess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ge </a:t>
            </a:r>
            <a:fld id="{0CFC1E3B-4AEE-4C6A-9631-BDF38F52B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AE3D-60DF-4494-9F1C-1EC5D7DCE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558D-6CD0-43A7-949E-FC86C7CEF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AD2B-E20A-45C4-87E6-699FAA5DC3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B50B-BF00-4D99-AF93-EE195BFEE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0273-AD40-427A-8A83-1BA87B590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4FA4-46CA-442E-AF85-D998DDCB1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593D-7BBB-47A6-A611-1C178D1AE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4C46-6219-4989-BBF5-70DFCCA2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C472-1D82-418F-B812-A527B7BD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215-CB9F-4C65-90BE-3FF86185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131-DC3C-4072-81F9-198DAF19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0B5-82B6-4E96-B371-B35A71AB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A67-764B-4CD4-8CF1-EDED5701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67E-C199-4B76-9E13-F7ED579C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3A8C-341A-41F7-8481-BC6EB086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11CA-6E35-472B-970E-5202C71E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CD6-5BCC-4FCD-8EB9-54EB1454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500F-18D1-4220-9FB6-942337BF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865-A1FB-436D-B2F9-80519F4E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6256-4596-4EEF-AC61-350F57C4F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2.png"/><Relationship Id="rId3" Type="http://schemas.openxmlformats.org/officeDocument/2006/relationships/image" Target="../media/image40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3.png"/><Relationship Id="rId3" Type="http://schemas.openxmlformats.org/officeDocument/2006/relationships/image" Target="../media/image40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4.png"/><Relationship Id="rId3" Type="http://schemas.openxmlformats.org/officeDocument/2006/relationships/image" Target="../media/image40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LCorp_K_logo"/>
          <p:cNvPicPr/>
          <p:nvPr/>
        </p:nvPicPr>
        <p:blipFill>
          <a:blip r:embed="rId1"/>
          <a:stretch/>
        </p:blipFill>
        <p:spPr>
          <a:xfrm>
            <a:off x="1177920" y="2525760"/>
            <a:ext cx="67867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0"/>
          <p:cNvSpPr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solidFill>
            <a:srgbClr val="ffffff"/>
          </a:solidFill>
          <a:ln w="38160">
            <a:solidFill>
              <a:srgbClr val="b6e1f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Key Question:  Where are w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MISSIONARY MENTALIT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Transformational churches discern their contexts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7030a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erstanding the communit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derstand the cultural context surrounding the church.  Know who lives around th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7030a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valuating the chur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b05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now they are called to care for the community.  They strive for everything they do to be in the language and culture of the people they are trying to rea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" descr="Corp_RdBklogo_Whback_pp.jpg"/>
          <p:cNvPicPr/>
          <p:nvPr/>
        </p:nvPicPr>
        <p:blipFill>
          <a:blip r:embed="rId1"/>
          <a:stretch/>
        </p:blipFill>
        <p:spPr>
          <a:xfrm>
            <a:off x="5479920" y="9229680"/>
            <a:ext cx="1521000" cy="422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2"/>
          <p:cNvSpPr/>
          <p:nvPr/>
        </p:nvSpPr>
        <p:spPr>
          <a:xfrm>
            <a:off x="0" y="58680"/>
            <a:ext cx="18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0" y="973080"/>
            <a:ext cx="184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iscern Contex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Group 7" descr=""/>
          <p:cNvPicPr/>
          <p:nvPr/>
        </p:nvPicPr>
        <p:blipFill>
          <a:blip r:embed="rId2"/>
          <a:stretch/>
        </p:blipFill>
        <p:spPr>
          <a:xfrm>
            <a:off x="66600" y="85680"/>
            <a:ext cx="1933560" cy="1932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TCimage2.jpg"/>
          <p:cNvPicPr/>
          <p:nvPr/>
        </p:nvPicPr>
        <p:blipFill>
          <a:blip r:embed="rId3"/>
          <a:stretch/>
        </p:blipFill>
        <p:spPr>
          <a:xfrm>
            <a:off x="6742080" y="6227640"/>
            <a:ext cx="2249640" cy="478080"/>
          </a:xfrm>
          <a:prstGeom prst="rect">
            <a:avLst/>
          </a:prstGeom>
          <a:ln w="0">
            <a:noFill/>
          </a:ln>
        </p:spPr>
      </p:pic>
      <p:grpSp>
        <p:nvGrpSpPr>
          <p:cNvPr id="91" name="Slide Number Placeholder 22"/>
          <p:cNvGrpSpPr/>
          <p:nvPr/>
        </p:nvGrpSpPr>
        <p:grpSpPr>
          <a:xfrm>
            <a:off x="139680" y="6205680"/>
            <a:ext cx="469800" cy="469800"/>
            <a:chOff x="139680" y="6205680"/>
            <a:chExt cx="469800" cy="469800"/>
          </a:xfrm>
        </p:grpSpPr>
        <p:pic>
          <p:nvPicPr>
            <p:cNvPr id="92" name="Slide Number Placeholder 22" descr=""/>
            <p:cNvPicPr/>
            <p:nvPr/>
          </p:nvPicPr>
          <p:blipFill>
            <a:blip r:embed="rId4"/>
            <a:stretch/>
          </p:blipFill>
          <p:spPr>
            <a:xfrm>
              <a:off x="139680" y="6205680"/>
              <a:ext cx="46980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12760" y="627696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4D3C66A-C7FA-4ADE-A417-75B981F485B4}" type="slidenum"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4" name="Picture 5" descr="corp blk_wndo"/>
          <p:cNvPicPr/>
          <p:nvPr/>
        </p:nvPicPr>
        <p:blipFill>
          <a:blip r:embed="rId5"/>
          <a:stretch/>
        </p:blipFill>
        <p:spPr>
          <a:xfrm>
            <a:off x="7593120" y="579132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One Mission: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2040" y="1143000"/>
            <a:ext cx="724212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000000"/>
                </a:solidFill>
                <a:latin typeface="Arial"/>
                <a:ea typeface="Arial"/>
              </a:rPr>
              <a:t>His Story: </a:t>
            </a:r>
            <a:br>
              <a:rPr sz="6700"/>
            </a:br>
            <a:r>
              <a:rPr b="0" lang="en-US" sz="6700" spc="-1" strike="noStrike">
                <a:solidFill>
                  <a:srgbClr val="000000"/>
                </a:solidFill>
                <a:latin typeface="Arial"/>
                <a:ea typeface="Arial"/>
              </a:rPr>
              <a:t>All the Bible for All of Life</a:t>
            </a: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issionary Sunday Sch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would your church’s Bible study (Sunday School) be different if you thought of it as missionary train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93FD-3E3D-4C2C-84C9-142455095CB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ifeSpan Development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peaking the Right Langu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ircle2"/>
          <p:cNvPicPr/>
          <p:nvPr/>
        </p:nvPicPr>
        <p:blipFill>
          <a:blip r:embed="rId1"/>
          <a:stretch/>
        </p:blipFill>
        <p:spPr>
          <a:xfrm>
            <a:off x="3429000" y="2465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orp red_wndo"/>
          <p:cNvPicPr/>
          <p:nvPr/>
        </p:nvPicPr>
        <p:blipFill>
          <a:blip r:embed="rId2"/>
          <a:stretch/>
        </p:blipFill>
        <p:spPr>
          <a:xfrm>
            <a:off x="757872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eader"/>
          <p:cNvPicPr/>
          <p:nvPr/>
        </p:nvPicPr>
        <p:blipFill>
          <a:blip r:embed="rId3"/>
          <a:stretch/>
        </p:blipFill>
        <p:spPr>
          <a:xfrm>
            <a:off x="228600" y="533520"/>
            <a:ext cx="8686800" cy="117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ircle3b"/>
          <p:cNvPicPr/>
          <p:nvPr/>
        </p:nvPicPr>
        <p:blipFill>
          <a:blip r:embed="rId4"/>
          <a:stretch/>
        </p:blipFill>
        <p:spPr>
          <a:xfrm>
            <a:off x="6553080" y="2438280"/>
            <a:ext cx="2173320" cy="2221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ircle1"/>
          <p:cNvPicPr/>
          <p:nvPr/>
        </p:nvPicPr>
        <p:blipFill>
          <a:blip r:embed="rId5"/>
          <a:stretch/>
        </p:blipFill>
        <p:spPr>
          <a:xfrm>
            <a:off x="304920" y="2438280"/>
            <a:ext cx="2008080" cy="2008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YAtrans"/>
          <p:cNvPicPr/>
          <p:nvPr/>
        </p:nvPicPr>
        <p:blipFill>
          <a:blip r:embed="rId6"/>
          <a:stretch/>
        </p:blipFill>
        <p:spPr>
          <a:xfrm>
            <a:off x="5638680" y="3200400"/>
            <a:ext cx="822600" cy="560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PreteenTrans"/>
          <p:cNvPicPr/>
          <p:nvPr/>
        </p:nvPicPr>
        <p:blipFill>
          <a:blip r:embed="rId7"/>
          <a:stretch/>
        </p:blipFill>
        <p:spPr>
          <a:xfrm>
            <a:off x="2438280" y="3124080"/>
            <a:ext cx="822600" cy="5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Circle2"/>
          <p:cNvPicPr/>
          <p:nvPr/>
        </p:nvPicPr>
        <p:blipFill>
          <a:blip r:embed="rId1"/>
          <a:stretch/>
        </p:blipFill>
        <p:spPr>
          <a:xfrm>
            <a:off x="3733920" y="1508040"/>
            <a:ext cx="1322280" cy="1322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5" descr="Header"/>
          <p:cNvPicPr/>
          <p:nvPr/>
        </p:nvPicPr>
        <p:blipFill>
          <a:blip r:embed="rId2"/>
          <a:stretch/>
        </p:blipFill>
        <p:spPr>
          <a:xfrm>
            <a:off x="395280" y="380880"/>
            <a:ext cx="8353440" cy="944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5" descr="corp red_wndo"/>
          <p:cNvPicPr/>
          <p:nvPr/>
        </p:nvPicPr>
        <p:blipFill>
          <a:blip r:embed="rId3"/>
          <a:stretch/>
        </p:blipFill>
        <p:spPr>
          <a:xfrm>
            <a:off x="757872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1" descr="Circle3b"/>
          <p:cNvPicPr/>
          <p:nvPr/>
        </p:nvPicPr>
        <p:blipFill>
          <a:blip r:embed="rId4"/>
          <a:stretch/>
        </p:blipFill>
        <p:spPr>
          <a:xfrm>
            <a:off x="6553080" y="1295280"/>
            <a:ext cx="1650960" cy="168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4" descr="Circle1"/>
          <p:cNvPicPr/>
          <p:nvPr/>
        </p:nvPicPr>
        <p:blipFill>
          <a:blip r:embed="rId5"/>
          <a:stretch/>
        </p:blipFill>
        <p:spPr>
          <a:xfrm>
            <a:off x="990720" y="1600200"/>
            <a:ext cx="1322280" cy="132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5" descr="YAtrans"/>
          <p:cNvPicPr/>
          <p:nvPr/>
        </p:nvPicPr>
        <p:blipFill>
          <a:blip r:embed="rId6"/>
          <a:stretch/>
        </p:blipFill>
        <p:spPr>
          <a:xfrm>
            <a:off x="5425920" y="1905120"/>
            <a:ext cx="822600" cy="560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6" descr="PreteenTrans"/>
          <p:cNvPicPr/>
          <p:nvPr/>
        </p:nvPicPr>
        <p:blipFill>
          <a:blip r:embed="rId7"/>
          <a:stretch/>
        </p:blipFill>
        <p:spPr>
          <a:xfrm>
            <a:off x="2606760" y="1905120"/>
            <a:ext cx="822240" cy="56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7" descr="description2"/>
          <p:cNvPicPr/>
          <p:nvPr/>
        </p:nvPicPr>
        <p:blipFill>
          <a:blip r:embed="rId8"/>
          <a:stretch/>
        </p:blipFill>
        <p:spPr>
          <a:xfrm>
            <a:off x="2895480" y="3124080"/>
            <a:ext cx="2925720" cy="1578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8" descr="description3"/>
          <p:cNvPicPr/>
          <p:nvPr/>
        </p:nvPicPr>
        <p:blipFill>
          <a:blip r:embed="rId9"/>
          <a:stretch/>
        </p:blipFill>
        <p:spPr>
          <a:xfrm>
            <a:off x="5943600" y="3124080"/>
            <a:ext cx="2876400" cy="1578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0" descr="arrows1"/>
          <p:cNvPicPr/>
          <p:nvPr/>
        </p:nvPicPr>
        <p:blipFill>
          <a:blip r:embed="rId10"/>
          <a:stretch/>
        </p:blipFill>
        <p:spPr>
          <a:xfrm>
            <a:off x="990720" y="5370480"/>
            <a:ext cx="950760" cy="725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1" descr="arrows2"/>
          <p:cNvPicPr/>
          <p:nvPr/>
        </p:nvPicPr>
        <p:blipFill>
          <a:blip r:embed="rId11"/>
          <a:stretch/>
        </p:blipFill>
        <p:spPr>
          <a:xfrm>
            <a:off x="1828800" y="5257800"/>
            <a:ext cx="2913120" cy="382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2" descr="arrows3"/>
          <p:cNvPicPr/>
          <p:nvPr/>
        </p:nvPicPr>
        <p:blipFill>
          <a:blip r:embed="rId12"/>
          <a:stretch/>
        </p:blipFill>
        <p:spPr>
          <a:xfrm>
            <a:off x="2057400" y="5257800"/>
            <a:ext cx="5853240" cy="950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4" descr="web2"/>
          <p:cNvPicPr/>
          <p:nvPr/>
        </p:nvPicPr>
        <p:blipFill>
          <a:blip r:embed="rId13"/>
          <a:stretch/>
        </p:blipFill>
        <p:spPr>
          <a:xfrm>
            <a:off x="3276720" y="4876920"/>
            <a:ext cx="2182680" cy="188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1" descr="web1"/>
          <p:cNvPicPr/>
          <p:nvPr/>
        </p:nvPicPr>
        <p:blipFill>
          <a:blip r:embed="rId14"/>
          <a:stretch/>
        </p:blipFill>
        <p:spPr>
          <a:xfrm>
            <a:off x="380880" y="4876920"/>
            <a:ext cx="2224080" cy="188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2" descr="description1"/>
          <p:cNvPicPr/>
          <p:nvPr/>
        </p:nvPicPr>
        <p:blipFill>
          <a:blip r:embed="rId15"/>
          <a:stretch/>
        </p:blipFill>
        <p:spPr>
          <a:xfrm>
            <a:off x="304920" y="3200400"/>
            <a:ext cx="2431800" cy="1395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3" descr="web3"/>
          <p:cNvPicPr/>
          <p:nvPr/>
        </p:nvPicPr>
        <p:blipFill>
          <a:blip r:embed="rId16"/>
          <a:stretch/>
        </p:blipFill>
        <p:spPr>
          <a:xfrm>
            <a:off x="6172200" y="4876920"/>
            <a:ext cx="2335320" cy="188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4" descr="TM2"/>
          <p:cNvPicPr/>
          <p:nvPr/>
        </p:nvPicPr>
        <p:blipFill>
          <a:blip r:embed="rId17"/>
          <a:stretch/>
        </p:blipFill>
        <p:spPr>
          <a:xfrm>
            <a:off x="2057400" y="2819520"/>
            <a:ext cx="120600" cy="66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5" descr="TM2"/>
          <p:cNvPicPr/>
          <p:nvPr/>
        </p:nvPicPr>
        <p:blipFill>
          <a:blip r:embed="rId18"/>
          <a:stretch/>
        </p:blipFill>
        <p:spPr>
          <a:xfrm>
            <a:off x="4876920" y="2743200"/>
            <a:ext cx="120600" cy="66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6" descr="TM2"/>
          <p:cNvPicPr/>
          <p:nvPr/>
        </p:nvPicPr>
        <p:blipFill>
          <a:blip r:embed="rId19"/>
          <a:stretch/>
        </p:blipFill>
        <p:spPr>
          <a:xfrm>
            <a:off x="7848720" y="2666880"/>
            <a:ext cx="120600" cy="66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7" descr="trademard"/>
          <p:cNvPicPr/>
          <p:nvPr/>
        </p:nvPicPr>
        <p:blipFill>
          <a:blip r:embed="rId20"/>
          <a:stretch/>
        </p:blipFill>
        <p:spPr>
          <a:xfrm>
            <a:off x="347760" y="6400800"/>
            <a:ext cx="460512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corp red_wndo"/>
          <p:cNvPicPr/>
          <p:nvPr/>
        </p:nvPicPr>
        <p:blipFill>
          <a:blip r:embed="rId1"/>
          <a:stretch/>
        </p:blipFill>
        <p:spPr>
          <a:xfrm>
            <a:off x="757872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ircle1"/>
          <p:cNvPicPr/>
          <p:nvPr/>
        </p:nvPicPr>
        <p:blipFill>
          <a:blip r:embed="rId2"/>
          <a:stretch/>
        </p:blipFill>
        <p:spPr>
          <a:xfrm>
            <a:off x="380880" y="380880"/>
            <a:ext cx="2895840" cy="2895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3429000" y="3808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ea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God’s Wo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2952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n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God’s Wo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581280" y="22096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God’s Wo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304920" y="41148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ught throug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rescriptiv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v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f biblical learning that are age appropri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ar. Know. D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feWay Kids “Levels of Biblical Learning” provides one of the frameworks for helping boys and girls </a:t>
            </a:r>
            <a:r>
              <a:rPr b="1" lang="en-US" sz="3200" spc="-1" strike="noStrike" u="sng">
                <a:solidFill>
                  <a:srgbClr val="009900"/>
                </a:solidFill>
                <a:uFillTx/>
                <a:latin typeface="Arial"/>
                <a:ea typeface="Arial"/>
              </a:rPr>
              <a:t>h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Arial"/>
                <a:ea typeface="Arial"/>
              </a:rPr>
              <a:t>kn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od’s Wo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 rot="867600">
            <a:off x="5341680" y="1523880"/>
            <a:ext cx="3039840" cy="388620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632523"/>
                </a:solidFill>
                <a:latin typeface="Arial"/>
                <a:ea typeface="Arial"/>
              </a:rPr>
              <a:t>What are the 10 Concepts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43000" y="1752120"/>
            <a:ext cx="38116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Jes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ib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re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ami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191120" y="1751040"/>
            <a:ext cx="464796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l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u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munity &amp; Worl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ly Spir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alv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ar. Know. D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60020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vantag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vides teachers, parents, and ministers of preschoolers and children wit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lest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related to biblical knowledge, skills, and attitudes at the designated levels from birth through prete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 rot="867600">
            <a:off x="5341680" y="1523880"/>
            <a:ext cx="3039840" cy="388620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2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32523"/>
                </a:solidFill>
                <a:latin typeface="Arial"/>
                <a:ea typeface="Arial"/>
              </a:rPr>
              <a:t>Development of ‘God’ Concep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1598760"/>
            <a:ext cx="89154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Babies – 2s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od loves 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3s – Pre-K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od loves me and is with 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K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od is always with 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s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&amp; 2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nd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od is everywhe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rd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&amp; 4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th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od is everywhere at all ti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Preteen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God is omnipres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487836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32523"/>
                </a:solidFill>
                <a:latin typeface="Arial"/>
                <a:ea typeface="Arial"/>
              </a:rPr>
              <a:t>Foundational Bible Stor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3581280"/>
            <a:ext cx="87631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3 foundational stories shared in Babies through Kindergar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4 more are added in Grades One through Si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men_2066c"/>
          <p:cNvPicPr/>
          <p:nvPr/>
        </p:nvPicPr>
        <p:blipFill>
          <a:blip r:embed="rId1"/>
          <a:stretch/>
        </p:blipFill>
        <p:spPr>
          <a:xfrm>
            <a:off x="6238800" y="228600"/>
            <a:ext cx="2581200" cy="3276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87c9c7d28c89ab24"/>
          <p:cNvPicPr/>
          <p:nvPr/>
        </p:nvPicPr>
        <p:blipFill>
          <a:blip r:embed="rId2"/>
          <a:stretch/>
        </p:blipFill>
        <p:spPr>
          <a:xfrm>
            <a:off x="6781680" y="1066680"/>
            <a:ext cx="133380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ar. Know. Do.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ngs to Reme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09480" y="137160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hough children develop spiritually in similar ways, the rate of th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velop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i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rtain concepts are introduc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en that concept and content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sef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ningf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the chi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 rot="867600">
            <a:off x="5667120" y="1536840"/>
            <a:ext cx="3039840" cy="388620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ar. Know. Do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ngs to Reme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28600" y="13712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le God nor His attributes change, a child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nderstan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ocabul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o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eaching or developing resources for broad-age groupings of children, concepts may be combined or adapted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 rot="867600">
            <a:off x="5667120" y="1765440"/>
            <a:ext cx="3039840" cy="388620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5480" y="380880"/>
            <a:ext cx="6019920" cy="163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Levels of Bible Skills — Goal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28191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s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&amp; 2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nd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ill know all the books of the Bible in order and can locate th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rd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&amp; 4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th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n quote up to 25 verses when given references. Begin to use Bible study hel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8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Preteen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dentify prominent Bible people and their stories. Can establish a discipline of daily Bible read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5" descr="word_5599c1_web"/>
          <p:cNvPicPr/>
          <p:nvPr/>
        </p:nvPicPr>
        <p:blipFill>
          <a:blip r:embed="rId1"/>
          <a:stretch/>
        </p:blipFill>
        <p:spPr>
          <a:xfrm>
            <a:off x="228600" y="152280"/>
            <a:ext cx="23223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0" y="-254160"/>
            <a:ext cx="9144000" cy="71121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7391520" y="6019920"/>
            <a:ext cx="17524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corp red_wndo"/>
          <p:cNvPicPr/>
          <p:nvPr/>
        </p:nvPicPr>
        <p:blipFill>
          <a:blip r:embed="rId2"/>
          <a:stretch/>
        </p:blipFill>
        <p:spPr>
          <a:xfrm>
            <a:off x="7580160" y="5943600"/>
            <a:ext cx="156384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ircle2"/>
          <p:cNvPicPr/>
          <p:nvPr/>
        </p:nvPicPr>
        <p:blipFill>
          <a:blip r:embed="rId1"/>
          <a:stretch/>
        </p:blipFill>
        <p:spPr>
          <a:xfrm>
            <a:off x="3429000" y="2465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corp red_wndo"/>
          <p:cNvPicPr/>
          <p:nvPr/>
        </p:nvPicPr>
        <p:blipFill>
          <a:blip r:embed="rId2"/>
          <a:stretch/>
        </p:blipFill>
        <p:spPr>
          <a:xfrm>
            <a:off x="757872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Header"/>
          <p:cNvPicPr/>
          <p:nvPr/>
        </p:nvPicPr>
        <p:blipFill>
          <a:blip r:embed="rId3"/>
          <a:stretch/>
        </p:blipFill>
        <p:spPr>
          <a:xfrm>
            <a:off x="228600" y="533520"/>
            <a:ext cx="8686800" cy="1172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ircle1"/>
          <p:cNvPicPr/>
          <p:nvPr/>
        </p:nvPicPr>
        <p:blipFill>
          <a:blip r:embed="rId4"/>
          <a:stretch/>
        </p:blipFill>
        <p:spPr>
          <a:xfrm>
            <a:off x="304920" y="2438280"/>
            <a:ext cx="2008080" cy="2008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PreteenTrans"/>
          <p:cNvPicPr/>
          <p:nvPr/>
        </p:nvPicPr>
        <p:blipFill>
          <a:blip r:embed="rId5"/>
          <a:stretch/>
        </p:blipFill>
        <p:spPr>
          <a:xfrm>
            <a:off x="2438280" y="3124080"/>
            <a:ext cx="822600" cy="5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SMP_Parent Partner_Present6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Research &amp; Known Stategy_2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Oval 2"/>
          <p:cNvGrpSpPr/>
          <p:nvPr/>
        </p:nvGrpSpPr>
        <p:grpSpPr>
          <a:xfrm>
            <a:off x="2511360" y="603360"/>
            <a:ext cx="3060720" cy="3060720"/>
            <a:chOff x="2511360" y="603360"/>
            <a:chExt cx="3060720" cy="3060720"/>
          </a:xfrm>
        </p:grpSpPr>
        <p:pic>
          <p:nvPicPr>
            <p:cNvPr id="50" name="Oval 2" descr=""/>
            <p:cNvPicPr/>
            <p:nvPr/>
          </p:nvPicPr>
          <p:blipFill>
            <a:blip r:embed="rId1"/>
            <a:stretch/>
          </p:blipFill>
          <p:spPr>
            <a:xfrm>
              <a:off x="2511360" y="603360"/>
              <a:ext cx="306072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960640" y="1055520"/>
              <a:ext cx="2156040" cy="21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Oval 3"/>
          <p:cNvGrpSpPr/>
          <p:nvPr/>
        </p:nvGrpSpPr>
        <p:grpSpPr>
          <a:xfrm>
            <a:off x="4413240" y="3803760"/>
            <a:ext cx="3060720" cy="3060720"/>
            <a:chOff x="4413240" y="3803760"/>
            <a:chExt cx="3060720" cy="3060720"/>
          </a:xfrm>
        </p:grpSpPr>
        <p:pic>
          <p:nvPicPr>
            <p:cNvPr id="53" name="Oval 3" descr=""/>
            <p:cNvPicPr/>
            <p:nvPr/>
          </p:nvPicPr>
          <p:blipFill>
            <a:blip r:embed="rId2"/>
            <a:stretch/>
          </p:blipFill>
          <p:spPr>
            <a:xfrm>
              <a:off x="4413240" y="3803760"/>
              <a:ext cx="306072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865760" y="4255920"/>
              <a:ext cx="2155680" cy="21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Oval 4"/>
          <p:cNvGrpSpPr/>
          <p:nvPr/>
        </p:nvGrpSpPr>
        <p:grpSpPr>
          <a:xfrm>
            <a:off x="530280" y="3651120"/>
            <a:ext cx="3060720" cy="3060720"/>
            <a:chOff x="530280" y="3651120"/>
            <a:chExt cx="3060720" cy="3060720"/>
          </a:xfrm>
        </p:grpSpPr>
        <p:pic>
          <p:nvPicPr>
            <p:cNvPr id="56" name="Oval 4" descr=""/>
            <p:cNvPicPr/>
            <p:nvPr/>
          </p:nvPicPr>
          <p:blipFill>
            <a:blip r:embed="rId3"/>
            <a:stretch/>
          </p:blipFill>
          <p:spPr>
            <a:xfrm>
              <a:off x="530280" y="3651120"/>
              <a:ext cx="3060720" cy="30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79560" y="4103640"/>
              <a:ext cx="2155680" cy="21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Title 1"/>
          <p:cNvSpPr/>
          <p:nvPr/>
        </p:nvSpPr>
        <p:spPr>
          <a:xfrm>
            <a:off x="3200400" y="3505320"/>
            <a:ext cx="1371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reeform 4"/>
          <p:cNvSpPr/>
          <p:nvPr/>
        </p:nvSpPr>
        <p:spPr>
          <a:xfrm rot="21319800">
            <a:off x="5328720" y="2106720"/>
            <a:ext cx="1293840" cy="1819080"/>
          </a:xfrm>
          <a:custGeom>
            <a:avLst/>
            <a:gdLst>
              <a:gd name="textAreaLeft" fmla="*/ 0 w 1293840"/>
              <a:gd name="textAreaRight" fmla="*/ 1294200 w 1293840"/>
              <a:gd name="textAreaTop" fmla="*/ 0 h 1819080"/>
              <a:gd name="textAreaBottom" fmla="*/ 1819440 h 1819080"/>
            </a:gdLst>
            <a:ahLst/>
            <a:rect l="textAreaLeft" t="textAreaTop" r="textAreaRight" b="textAreaBottom"/>
            <a:pathLst>
              <a:path w="679" h="955">
                <a:moveTo>
                  <a:pt x="201" y="661"/>
                </a:moveTo>
                <a:lnTo>
                  <a:pt x="409" y="955"/>
                </a:lnTo>
                <a:lnTo>
                  <a:pt x="679" y="717"/>
                </a:lnTo>
                <a:lnTo>
                  <a:pt x="546" y="699"/>
                </a:lnTo>
                <a:lnTo>
                  <a:pt x="545" y="696"/>
                </a:lnTo>
                <a:cubicBezTo>
                  <a:pt x="541" y="675"/>
                  <a:pt x="536" y="613"/>
                  <a:pt x="525" y="573"/>
                </a:cubicBezTo>
                <a:cubicBezTo>
                  <a:pt x="514" y="533"/>
                  <a:pt x="496" y="491"/>
                  <a:pt x="476" y="454"/>
                </a:cubicBezTo>
                <a:cubicBezTo>
                  <a:pt x="456" y="417"/>
                  <a:pt x="442" y="396"/>
                  <a:pt x="407" y="353"/>
                </a:cubicBezTo>
                <a:cubicBezTo>
                  <a:pt x="372" y="310"/>
                  <a:pt x="325" y="252"/>
                  <a:pt x="264" y="198"/>
                </a:cubicBezTo>
                <a:cubicBezTo>
                  <a:pt x="203" y="144"/>
                  <a:pt x="86" y="60"/>
                  <a:pt x="42" y="27"/>
                </a:cubicBezTo>
                <a:lnTo>
                  <a:pt x="0" y="0"/>
                </a:lnTo>
                <a:lnTo>
                  <a:pt x="29" y="48"/>
                </a:lnTo>
                <a:cubicBezTo>
                  <a:pt x="76" y="115"/>
                  <a:pt x="235" y="298"/>
                  <a:pt x="285" y="403"/>
                </a:cubicBezTo>
                <a:cubicBezTo>
                  <a:pt x="335" y="508"/>
                  <a:pt x="346" y="635"/>
                  <a:pt x="332" y="678"/>
                </a:cubicBezTo>
                <a:lnTo>
                  <a:pt x="201" y="661"/>
                </a:lnTo>
                <a:close/>
              </a:path>
            </a:pathLst>
          </a:custGeom>
          <a:gradFill rotWithShape="0">
            <a:gsLst>
              <a:gs pos="0">
                <a:srgbClr val="93cddd"/>
              </a:gs>
              <a:gs pos="100000">
                <a:srgbClr val="b3a2c7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reeform 7"/>
          <p:cNvSpPr/>
          <p:nvPr/>
        </p:nvSpPr>
        <p:spPr>
          <a:xfrm rot="7248000">
            <a:off x="3056760" y="5369400"/>
            <a:ext cx="1293840" cy="1819440"/>
          </a:xfrm>
          <a:custGeom>
            <a:avLst/>
            <a:gdLst>
              <a:gd name="textAreaLeft" fmla="*/ 0 w 1293840"/>
              <a:gd name="textAreaRight" fmla="*/ 1294200 w 1293840"/>
              <a:gd name="textAreaTop" fmla="*/ 0 h 1819440"/>
              <a:gd name="textAreaBottom" fmla="*/ 1819800 h 1819440"/>
            </a:gdLst>
            <a:ahLst/>
            <a:rect l="textAreaLeft" t="textAreaTop" r="textAreaRight" b="textAreaBottom"/>
            <a:pathLst>
              <a:path w="679" h="955">
                <a:moveTo>
                  <a:pt x="201" y="661"/>
                </a:moveTo>
                <a:lnTo>
                  <a:pt x="409" y="955"/>
                </a:lnTo>
                <a:lnTo>
                  <a:pt x="679" y="717"/>
                </a:lnTo>
                <a:lnTo>
                  <a:pt x="546" y="699"/>
                </a:lnTo>
                <a:lnTo>
                  <a:pt x="545" y="696"/>
                </a:lnTo>
                <a:cubicBezTo>
                  <a:pt x="541" y="675"/>
                  <a:pt x="536" y="613"/>
                  <a:pt x="525" y="573"/>
                </a:cubicBezTo>
                <a:cubicBezTo>
                  <a:pt x="514" y="533"/>
                  <a:pt x="496" y="491"/>
                  <a:pt x="476" y="454"/>
                </a:cubicBezTo>
                <a:cubicBezTo>
                  <a:pt x="456" y="417"/>
                  <a:pt x="442" y="396"/>
                  <a:pt x="407" y="353"/>
                </a:cubicBezTo>
                <a:cubicBezTo>
                  <a:pt x="372" y="310"/>
                  <a:pt x="325" y="252"/>
                  <a:pt x="264" y="198"/>
                </a:cubicBezTo>
                <a:cubicBezTo>
                  <a:pt x="203" y="144"/>
                  <a:pt x="86" y="60"/>
                  <a:pt x="42" y="27"/>
                </a:cubicBezTo>
                <a:lnTo>
                  <a:pt x="0" y="0"/>
                </a:lnTo>
                <a:lnTo>
                  <a:pt x="29" y="48"/>
                </a:lnTo>
                <a:cubicBezTo>
                  <a:pt x="76" y="115"/>
                  <a:pt x="235" y="298"/>
                  <a:pt x="285" y="403"/>
                </a:cubicBezTo>
                <a:cubicBezTo>
                  <a:pt x="335" y="508"/>
                  <a:pt x="346" y="635"/>
                  <a:pt x="332" y="678"/>
                </a:cubicBezTo>
                <a:lnTo>
                  <a:pt x="201" y="661"/>
                </a:lnTo>
                <a:close/>
              </a:path>
            </a:pathLst>
          </a:custGeom>
          <a:gradFill rotWithShape="0">
            <a:gsLst>
              <a:gs pos="0">
                <a:srgbClr val="b3a2c7"/>
              </a:gs>
              <a:gs pos="100000">
                <a:srgbClr val="c3d69b"/>
              </a:gs>
            </a:gsLst>
            <a:lin ang="1705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reeform 8"/>
          <p:cNvSpPr/>
          <p:nvPr/>
        </p:nvSpPr>
        <p:spPr>
          <a:xfrm rot="14374800">
            <a:off x="1137240" y="1861200"/>
            <a:ext cx="1293840" cy="1819080"/>
          </a:xfrm>
          <a:custGeom>
            <a:avLst/>
            <a:gdLst>
              <a:gd name="textAreaLeft" fmla="*/ 0 w 1293840"/>
              <a:gd name="textAreaRight" fmla="*/ 1294200 w 1293840"/>
              <a:gd name="textAreaTop" fmla="*/ 0 h 1819080"/>
              <a:gd name="textAreaBottom" fmla="*/ 1819440 h 1819080"/>
            </a:gdLst>
            <a:ahLst/>
            <a:rect l="textAreaLeft" t="textAreaTop" r="textAreaRight" b="textAreaBottom"/>
            <a:pathLst>
              <a:path w="679" h="955">
                <a:moveTo>
                  <a:pt x="201" y="661"/>
                </a:moveTo>
                <a:lnTo>
                  <a:pt x="409" y="955"/>
                </a:lnTo>
                <a:lnTo>
                  <a:pt x="679" y="717"/>
                </a:lnTo>
                <a:lnTo>
                  <a:pt x="546" y="699"/>
                </a:lnTo>
                <a:lnTo>
                  <a:pt x="545" y="696"/>
                </a:lnTo>
                <a:cubicBezTo>
                  <a:pt x="541" y="675"/>
                  <a:pt x="536" y="613"/>
                  <a:pt x="525" y="573"/>
                </a:cubicBezTo>
                <a:cubicBezTo>
                  <a:pt x="514" y="533"/>
                  <a:pt x="496" y="491"/>
                  <a:pt x="476" y="454"/>
                </a:cubicBezTo>
                <a:cubicBezTo>
                  <a:pt x="456" y="417"/>
                  <a:pt x="442" y="396"/>
                  <a:pt x="407" y="353"/>
                </a:cubicBezTo>
                <a:cubicBezTo>
                  <a:pt x="372" y="310"/>
                  <a:pt x="325" y="252"/>
                  <a:pt x="264" y="198"/>
                </a:cubicBezTo>
                <a:cubicBezTo>
                  <a:pt x="203" y="144"/>
                  <a:pt x="86" y="60"/>
                  <a:pt x="42" y="27"/>
                </a:cubicBezTo>
                <a:lnTo>
                  <a:pt x="0" y="0"/>
                </a:lnTo>
                <a:lnTo>
                  <a:pt x="29" y="48"/>
                </a:lnTo>
                <a:cubicBezTo>
                  <a:pt x="76" y="115"/>
                  <a:pt x="235" y="298"/>
                  <a:pt x="285" y="403"/>
                </a:cubicBezTo>
                <a:cubicBezTo>
                  <a:pt x="335" y="508"/>
                  <a:pt x="346" y="635"/>
                  <a:pt x="332" y="678"/>
                </a:cubicBezTo>
                <a:lnTo>
                  <a:pt x="201" y="661"/>
                </a:lnTo>
                <a:close/>
              </a:path>
            </a:pathLst>
          </a:custGeom>
          <a:gradFill rotWithShape="0">
            <a:gsLst>
              <a:gs pos="0">
                <a:srgbClr val="c3d69b"/>
              </a:gs>
              <a:gs pos="100000">
                <a:srgbClr val="93cddd"/>
              </a:gs>
            </a:gsLst>
            <a:lin ang="9924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Diagram 1" descr=""/>
          <p:cNvPicPr/>
          <p:nvPr/>
        </p:nvPicPr>
        <p:blipFill>
          <a:blip r:embed="rId4"/>
          <a:stretch/>
        </p:blipFill>
        <p:spPr>
          <a:xfrm>
            <a:off x="-463680" y="549360"/>
            <a:ext cx="8547120" cy="5954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3"/>
          <p:cNvSpPr/>
          <p:nvPr/>
        </p:nvSpPr>
        <p:spPr>
          <a:xfrm>
            <a:off x="4952880" y="1159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amework Prin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corp blk_wndo"/>
          <p:cNvPicPr/>
          <p:nvPr/>
        </p:nvPicPr>
        <p:blipFill>
          <a:blip r:embed="rId5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90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blica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l For Studen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01-32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217964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ircle2"/>
          <p:cNvPicPr/>
          <p:nvPr/>
        </p:nvPicPr>
        <p:blipFill>
          <a:blip r:embed="rId1"/>
          <a:stretch/>
        </p:blipFill>
        <p:spPr>
          <a:xfrm>
            <a:off x="3429000" y="24652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orp red_wndo"/>
          <p:cNvPicPr/>
          <p:nvPr/>
        </p:nvPicPr>
        <p:blipFill>
          <a:blip r:embed="rId2"/>
          <a:stretch/>
        </p:blipFill>
        <p:spPr>
          <a:xfrm>
            <a:off x="757872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eader"/>
          <p:cNvPicPr/>
          <p:nvPr/>
        </p:nvPicPr>
        <p:blipFill>
          <a:blip r:embed="rId3"/>
          <a:stretch/>
        </p:blipFill>
        <p:spPr>
          <a:xfrm>
            <a:off x="228600" y="533520"/>
            <a:ext cx="8686800" cy="1172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ircle3b"/>
          <p:cNvPicPr/>
          <p:nvPr/>
        </p:nvPicPr>
        <p:blipFill>
          <a:blip r:embed="rId4"/>
          <a:stretch/>
        </p:blipFill>
        <p:spPr>
          <a:xfrm>
            <a:off x="6553080" y="2438280"/>
            <a:ext cx="2173320" cy="2221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ircle1"/>
          <p:cNvPicPr/>
          <p:nvPr/>
        </p:nvPicPr>
        <p:blipFill>
          <a:blip r:embed="rId5"/>
          <a:stretch/>
        </p:blipFill>
        <p:spPr>
          <a:xfrm>
            <a:off x="304920" y="2438280"/>
            <a:ext cx="2008080" cy="2008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YAtrans"/>
          <p:cNvPicPr/>
          <p:nvPr/>
        </p:nvPicPr>
        <p:blipFill>
          <a:blip r:embed="rId6"/>
          <a:stretch/>
        </p:blipFill>
        <p:spPr>
          <a:xfrm>
            <a:off x="5638680" y="3200400"/>
            <a:ext cx="822600" cy="560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PreteenTrans"/>
          <p:cNvPicPr/>
          <p:nvPr/>
        </p:nvPicPr>
        <p:blipFill>
          <a:blip r:embed="rId7"/>
          <a:stretch/>
        </p:blipFill>
        <p:spPr>
          <a:xfrm>
            <a:off x="2438280" y="3124080"/>
            <a:ext cx="822600" cy="5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corp red_wndo"/>
          <p:cNvPicPr/>
          <p:nvPr/>
        </p:nvPicPr>
        <p:blipFill>
          <a:blip r:embed="rId1"/>
          <a:stretch/>
        </p:blipFill>
        <p:spPr>
          <a:xfrm>
            <a:off x="757872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A"/>
          <p:cNvPicPr/>
          <p:nvPr/>
        </p:nvPicPr>
        <p:blipFill>
          <a:blip r:embed="rId2"/>
          <a:stretch/>
        </p:blipFill>
        <p:spPr>
          <a:xfrm>
            <a:off x="2590920" y="272880"/>
            <a:ext cx="3995640" cy="5274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title"/>
          <p:cNvPicPr/>
          <p:nvPr/>
        </p:nvPicPr>
        <p:blipFill>
          <a:blip r:embed="rId3"/>
          <a:stretch/>
        </p:blipFill>
        <p:spPr>
          <a:xfrm>
            <a:off x="2514600" y="228600"/>
            <a:ext cx="4191120" cy="4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TM2"/>
          <p:cNvPicPr/>
          <p:nvPr/>
        </p:nvPicPr>
        <p:blipFill>
          <a:blip r:embed="rId4"/>
          <a:stretch/>
        </p:blipFill>
        <p:spPr>
          <a:xfrm>
            <a:off x="5943600" y="4952880"/>
            <a:ext cx="120600" cy="6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corp red_wndo"/>
          <p:cNvPicPr/>
          <p:nvPr/>
        </p:nvPicPr>
        <p:blipFill>
          <a:blip r:embed="rId1"/>
          <a:stretch/>
        </p:blipFill>
        <p:spPr>
          <a:xfrm>
            <a:off x="757872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B"/>
          <p:cNvPicPr/>
          <p:nvPr/>
        </p:nvPicPr>
        <p:blipFill>
          <a:blip r:embed="rId2"/>
          <a:stretch/>
        </p:blipFill>
        <p:spPr>
          <a:xfrm>
            <a:off x="2590920" y="272880"/>
            <a:ext cx="4743360" cy="5274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title"/>
          <p:cNvPicPr/>
          <p:nvPr/>
        </p:nvPicPr>
        <p:blipFill>
          <a:blip r:embed="rId3"/>
          <a:stretch/>
        </p:blipFill>
        <p:spPr>
          <a:xfrm>
            <a:off x="2514600" y="228600"/>
            <a:ext cx="4191120" cy="471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TM2"/>
          <p:cNvPicPr/>
          <p:nvPr/>
        </p:nvPicPr>
        <p:blipFill>
          <a:blip r:embed="rId4"/>
          <a:stretch/>
        </p:blipFill>
        <p:spPr>
          <a:xfrm>
            <a:off x="5943600" y="4952880"/>
            <a:ext cx="120600" cy="66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corp red_wndo"/>
          <p:cNvPicPr/>
          <p:nvPr/>
        </p:nvPicPr>
        <p:blipFill>
          <a:blip r:embed="rId1"/>
          <a:stretch/>
        </p:blipFill>
        <p:spPr>
          <a:xfrm>
            <a:off x="757872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C"/>
          <p:cNvPicPr/>
          <p:nvPr/>
        </p:nvPicPr>
        <p:blipFill>
          <a:blip r:embed="rId2"/>
          <a:stretch/>
        </p:blipFill>
        <p:spPr>
          <a:xfrm>
            <a:off x="2590920" y="272880"/>
            <a:ext cx="4743360" cy="6313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title"/>
          <p:cNvPicPr/>
          <p:nvPr/>
        </p:nvPicPr>
        <p:blipFill>
          <a:blip r:embed="rId3"/>
          <a:stretch/>
        </p:blipFill>
        <p:spPr>
          <a:xfrm>
            <a:off x="2514600" y="228600"/>
            <a:ext cx="4191120" cy="471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TM2"/>
          <p:cNvPicPr/>
          <p:nvPr/>
        </p:nvPicPr>
        <p:blipFill>
          <a:blip r:embed="rId4"/>
          <a:stretch/>
        </p:blipFill>
        <p:spPr>
          <a:xfrm>
            <a:off x="5943600" y="4952880"/>
            <a:ext cx="120600" cy="66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corp red_wndo"/>
          <p:cNvPicPr/>
          <p:nvPr/>
        </p:nvPicPr>
        <p:blipFill>
          <a:blip r:embed="rId1"/>
          <a:stretch/>
        </p:blipFill>
        <p:spPr>
          <a:xfrm>
            <a:off x="758016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D"/>
          <p:cNvPicPr/>
          <p:nvPr/>
        </p:nvPicPr>
        <p:blipFill>
          <a:blip r:embed="rId2"/>
          <a:stretch/>
        </p:blipFill>
        <p:spPr>
          <a:xfrm>
            <a:off x="1817640" y="271440"/>
            <a:ext cx="5515200" cy="6313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title"/>
          <p:cNvPicPr/>
          <p:nvPr/>
        </p:nvPicPr>
        <p:blipFill>
          <a:blip r:embed="rId3"/>
          <a:stretch/>
        </p:blipFill>
        <p:spPr>
          <a:xfrm>
            <a:off x="2514600" y="228600"/>
            <a:ext cx="4191120" cy="471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TM2"/>
          <p:cNvPicPr/>
          <p:nvPr/>
        </p:nvPicPr>
        <p:blipFill>
          <a:blip r:embed="rId4"/>
          <a:stretch/>
        </p:blipFill>
        <p:spPr>
          <a:xfrm>
            <a:off x="5943600" y="4952880"/>
            <a:ext cx="120600" cy="669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corp red_wndo"/>
          <p:cNvPicPr/>
          <p:nvPr/>
        </p:nvPicPr>
        <p:blipFill>
          <a:blip r:embed="rId1"/>
          <a:stretch/>
        </p:blipFill>
        <p:spPr>
          <a:xfrm>
            <a:off x="7578720" y="6095880"/>
            <a:ext cx="1563840" cy="457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E"/>
          <p:cNvPicPr/>
          <p:nvPr/>
        </p:nvPicPr>
        <p:blipFill>
          <a:blip r:embed="rId2"/>
          <a:stretch/>
        </p:blipFill>
        <p:spPr>
          <a:xfrm>
            <a:off x="1814400" y="271440"/>
            <a:ext cx="5515200" cy="6313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title"/>
          <p:cNvPicPr/>
          <p:nvPr/>
        </p:nvPicPr>
        <p:blipFill>
          <a:blip r:embed="rId3"/>
          <a:stretch/>
        </p:blipFill>
        <p:spPr>
          <a:xfrm>
            <a:off x="2514600" y="228600"/>
            <a:ext cx="4191120" cy="471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TM2"/>
          <p:cNvPicPr/>
          <p:nvPr/>
        </p:nvPicPr>
        <p:blipFill>
          <a:blip r:embed="rId4"/>
          <a:stretch/>
        </p:blipFill>
        <p:spPr>
          <a:xfrm>
            <a:off x="5943600" y="4952880"/>
            <a:ext cx="120600" cy="6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Every Person: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The Missionary Principle of the Peopl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761760" y="6858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tex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s a missionary Sunday School we refer to context as it relates to issues of the people group, (Rural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and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graders; vs. teenage urban boys), their culture, values, and lifesty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textualiz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s a missionary Sunday School contextualization refers to developing and/or adapting a strategy determined by the specific context (area and peopl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1 Corinthian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9:22—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“To the weak I became weak, in order to win the weak. </a:t>
            </a:r>
            <a:br>
              <a:rPr sz="1700"/>
            </a:br>
            <a:r>
              <a:rPr b="1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 have become all things to all people, so that I may by every possible means save some”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HCSB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09520" y="2819160"/>
            <a:ext cx="5334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many ways to categorize ne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l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ticip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609480" y="30492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a number of different barriers that will need to be identified and addres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r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r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ltu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r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igi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r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RANSFORMATIONAL CHU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4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feWay Research gathered data for months through surveys and personal interviews with church lead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ata provides the framework for the resources LifeWay is developing to guide local churches through the Transformational Church proc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corp blk_wndo"/>
          <p:cNvPicPr/>
          <p:nvPr/>
        </p:nvPicPr>
        <p:blipFill>
          <a:blip r:embed="rId2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0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What roadblocks does your class or church face when it comes to having a group for everyone in your community? What actions can you take to help remove those roadblock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What would God need to do so your class could establish a new group for a UPG in your communit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What would God need to do to make your class a center for sending missionaries to other groups (preschool, children, student, and other adult groups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04920" y="12193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oo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formational Chur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eals data from groundbreaking research gathered from hundreds of churches, representing multiple denominations, that are leading examples of spiritual transform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ompanying the book are a DVD and study guide produced by the church resources divi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online assessment tool will also be available to help churches access the seven elements of Transformational Church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4DB4-965E-4E8E-82AE-2B2ED170C636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corp blk_wndo"/>
          <p:cNvPicPr/>
          <p:nvPr/>
        </p:nvPicPr>
        <p:blipFill>
          <a:blip r:embed="rId2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RANSFORMATIONAL CHU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6840" y="12952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al of the Transformational Church initiative is to help churches make a biblical impact with the Gosp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st important message is that churches are being transformed, and they are actively engaged in the transformation of people and communities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 often we’ve highlighted the negative realities of the declining American church, but we’ve missed the opportunity to magnify the God of hope and transformatio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B160-D106-4E52-8EA7-AC6160733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corp blk_wndo"/>
          <p:cNvPicPr/>
          <p:nvPr/>
        </p:nvPicPr>
        <p:blipFill>
          <a:blip r:embed="rId2"/>
          <a:stretch/>
        </p:blipFill>
        <p:spPr>
          <a:xfrm>
            <a:off x="7593120" y="5943600"/>
            <a:ext cx="1550880" cy="457200"/>
          </a:xfrm>
          <a:prstGeom prst="rect">
            <a:avLst/>
          </a:prstGeom>
          <a:ln w="0">
            <a:noFill/>
          </a:ln>
        </p:spPr>
      </p:pic>
      <p:sp>
        <p:nvSpPr>
          <p:cNvPr id="75" name="Title 1"/>
          <p:cNvSpPr/>
          <p:nvPr/>
        </p:nvSpPr>
        <p:spPr>
          <a:xfrm>
            <a:off x="304920" y="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RANSFORMATIONAL CHU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7 Elements of Trans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44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SCERN YOUR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ssion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entality – the church understands their community and will minister in contextually appropriate ways to reach local people with the Gosp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EFC3-C066-4B38-A875-AF862B7EB46B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7 Elements of Trans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2949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MBRACE PROPER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bra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aders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vibrant leaders lead their people to worship, live in community, and live on mission – How can I help you ser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ayerf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pendence – the level, type, and expectance about prayer is greater in amount and intensity – The Practice of Pray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la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tentionality – providing platforms to create relationships and processes that produce life 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7 Elements of Trans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48FA-0C43-436F-9111-76B572542EFB}" type="slidenum">
              <a:rPr b="0" lang="en-US" sz="11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1219320"/>
            <a:ext cx="85341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GAGE PROPER 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ors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Actively Embrace Jesus - A matter of living and not a mode of church programming – Worship is a lifesty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mu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Connect People with People - the activity of joining lives together – Doing life toge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spcAft>
                <a:spcPts val="15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Show Jesus through Word and Action - the reason behind the thinking, motivation, and activity is God’s Mission to make disciples – Why we do what we d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5:54:51Z</dcterms:created>
  <dc:creator>G. Dwayne McCrary</dc:creator>
  <dc:description/>
  <dc:language>en-US</dc:language>
  <cp:lastModifiedBy>G. Dwayne McCrary</cp:lastModifiedBy>
  <dcterms:modified xsi:type="dcterms:W3CDTF">2011-12-02T12:46:02Z</dcterms:modified>
  <cp:revision>24</cp:revision>
  <dc:subject/>
  <dc:title>Slide 1</dc:title>
</cp:coreProperties>
</file>