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001-5978-4AC9-B4CB-FA552E3C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F5C9-C472-49F1-88CE-6F955E17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963C5-E8FB-4214-B270-A22E352E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3CDCA-9EED-4B5B-8240-47D1020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0EC56-F7D0-4C66-9500-55C83292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17725-C38E-4A58-A844-9E57E4A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E4DE8-69EE-4923-8E3A-F8E4E4D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26996-AC66-4395-A0CF-0B03EF20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03294-9D3D-4666-8BA6-7952D547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7C0D2-0017-42EB-904D-45804DF4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E9E99-CE84-424D-B855-A78C9894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02E8D-E421-4C20-9D9C-6CB94B22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DDD-0D79-4ABA-93B2-09EB3580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95B47-743C-4BA7-96F4-3301FD37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87C28-E4EE-4F12-94E8-06DDD294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4200A-44FD-44EE-BAF3-732B7D83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C8E2F-CB7E-43D1-BAC0-0D192BED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E389B-95C2-4515-8965-0EF3FCFC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BBBC-CF0E-4BAA-B436-066B3AF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85A40-243B-4F2E-AC1A-751E7B6B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D7E9F-C611-4D51-A391-22056588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A8B9D-8E33-4005-BF47-69A7D4A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D5658-9ECB-4B35-BD4D-72CDF121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134-8037-4D66-A31D-FB64F8C8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3153D-CD08-4BCA-81AF-A828B68B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0FA07-4A6B-45CD-9EA1-D3282999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DB9D1-6FE4-4D26-B11A-0E46C725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0127-3F29-48FC-A58A-8AAF95B9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34CC4-550F-4F54-883D-DD132D71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B0164-75AC-4294-A99E-7CE56B4E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76E34-9BA0-4D63-BAC0-1D7C4F3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E8F64-FCB6-42B8-B2BB-9825181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2F8D5-CF27-4B0E-8EB2-849EC75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3A889-1438-404A-BDD3-27A987F8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5CED-C37A-4375-8678-2372243F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941D-0334-44F0-B064-0BA7854A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CE8EB-62A5-4472-BF30-E48AA21A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9B9C2-B815-4A3D-8E33-8FB08383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83F3-F089-4402-9D10-19F32221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7B1-4605-404E-8186-88EA60DE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BE26-80F2-45D8-A0BD-E34BDEAF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9D74-6F56-4E77-A243-16464421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907B-825D-4CA0-A99B-882B3C7A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312-D601-49F2-AD06-CDEBA514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86F-D743-4AB7-B387-690E2673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CBAA-3C4D-40C2-8CB4-1AFD1FBB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604B-43E1-4A55-AC2D-E36F8A7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62D3-C71E-4DB1-A0FE-9D72871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BB1C-7EDB-43B9-BFA9-5FD7DD86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DDD-274D-4298-BD9D-A4991410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5BD1-366C-4ADE-8BCE-6D9049EA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E3AA3-C3D0-4B7B-9876-27DB51A2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EDB17-5766-4ACD-81AC-3C1CE1F5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4F352-208A-453F-843E-6D2315D5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D84CA-CD1A-4EF3-B5F2-ECBBC81E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853-0E9D-4D46-A305-87ABA46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F003-844D-4E9F-9D25-3566070E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669B-B963-4F15-B1F8-FBE39BBC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3C81-7F76-4916-AB92-89E0B48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2902E-5794-49FA-99EA-DCDF0FF0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C0FD-ACF2-414F-8564-EF8CFC47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4DA5-E19C-4AB3-999B-9D39C73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18C0-CEDB-4F15-8EBE-BA75AA22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0377-4552-4EFE-B989-5956AA54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7B6C-0798-4FBE-8BBE-EEB6C263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BABD-6312-4B3E-B5C6-9A89CF80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877-1BF2-4131-8C73-B6F576AB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8D5D-32A8-4A54-ADF6-C5624C5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47C1-7D11-46A9-B457-9F02017B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46E6B-6CD9-4A02-A1FF-B8E31ACD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59061-3953-4404-976E-CEEF5708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6852-A8FB-4713-8E4A-81F4FBE2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40C0-6BA0-48F2-A3C7-1E3A08D0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A4BE3-201E-476B-B897-B7A6ECA5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D1067-3F0E-4EC1-AEBE-0C509E47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050D-4C1D-4CD1-A9CB-39468252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E8020-0E26-4B7E-AE40-67A1DF4C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F66-43A0-4EA7-B6E4-8D4F143A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E0B6-9400-46A5-8D5A-BCB0B716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8854B-6BC5-42BC-9C6C-36DBA0F0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675D-E72F-4AFA-90BD-95B0D356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C8BCE-A67D-4039-AA57-989C57C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53540-8E52-4363-93FC-C2EF064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D4570-E539-4BAF-82B1-5982DF0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7AB1-C154-4038-B0A7-0BB6B3F3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A31B-DBC1-4079-A4AD-2DAE3463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E18E3-7946-4DC3-9102-F0EA4DB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3C654-BEE8-485F-A809-18F3F62A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295-C69F-4F72-84D2-2C0D5300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D76C-1A72-4DFA-A16E-ACE42F3B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54ECD-A843-4BFE-8BF6-E0D61935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CCBFA-F856-4280-AECC-D8C145ED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27121-65ED-471D-8D76-93950668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6665C-F0B9-4C8D-A51E-210FD815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38C9E-6702-4C58-A6ED-168449F5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3D17A-D699-4CD7-BCE7-A66AD60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AE4EE-ADDB-48BF-9925-2DC39B38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4B57-1256-42CC-9F09-B640B790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16E9-BDFD-488F-99B8-E7B42E28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F51-4397-4D90-8A23-DEF7FBF9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A2DB-E3FF-49B4-97D2-EE4713C7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7DC2B-CD99-4341-B1C8-6B07BF97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EE3AD-8ACD-4B0E-9680-266E6A2A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48B1-497A-4560-9627-85D6177D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88320-1D28-4378-BCAC-B1D456C8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E13C8-3F6A-44A1-8D11-C7F2DFB9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686B-ACA6-4D8A-8515-A05CF61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6572D-27EC-4587-8E1B-70A5FEF9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25ED1-9435-4397-BC3B-03B09CEA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61AB-62F1-479A-B6D6-3F4AF977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2FB-8179-4C81-BFA5-A6C4C70F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5B5BE-4561-4559-B359-3F9FC3D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C0692-6B29-4419-B4F6-6CA719BE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65AF0-F64C-4FCA-856A-338EA72E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0D460-5DBA-4670-A1A9-DA86F3EC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057F2-69C0-4A2C-86F6-BF8CD3BB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19037-9E79-4586-9DE0-C0DF8EBD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BA348-3F4A-4689-9034-0F80B18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0B6E5-9D0F-44DD-AE4F-D7C5498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D48D2-5F3F-4579-89C2-F2B9549F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04CC4-23B4-4045-8561-7D719E7D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1278-EF5C-4993-9ED7-DAC4A78B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503280"/>
            <a:ext cx="73137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231F-2001-44C5-A9C4-79B25ED8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A5D8-C2CC-43DB-ADAA-D71D6835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94973-10AC-460C-A168-4A0AD88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97BC6-9527-411B-916F-FD338696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3853800"/>
            <a:ext cx="7313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9B58D-BD7E-442B-B69D-4C3B93BC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2360" y="173484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2360" y="3853800"/>
            <a:ext cx="356904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46535-BD79-4865-8959-4E961091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8724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60080" y="173484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8724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60080" y="3853800"/>
            <a:ext cx="2354760" cy="193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4B31-2F6D-4564-80B8-19B5F339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C6CF-16E6-465E-905D-30438744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775BD-899C-4D9A-BD0E-F08EF5E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D9314-D1DE-45BE-B664-900DD87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21.xml"/><Relationship Id="rId13" Type="http://schemas.openxmlformats.org/officeDocument/2006/relationships/slideLayout" Target="../slideLayouts/slideLayout122.xml"/><Relationship Id="rId14" Type="http://schemas.openxmlformats.org/officeDocument/2006/relationships/slideLayout" Target="../slideLayouts/slideLayout123.xml"/><Relationship Id="rId15" Type="http://schemas.openxmlformats.org/officeDocument/2006/relationships/slideLayout" Target="../slideLayouts/slideLayout124.xml"/><Relationship Id="rId16" Type="http://schemas.openxmlformats.org/officeDocument/2006/relationships/slideLayout" Target="../slideLayouts/slideLayout125.xml"/><Relationship Id="rId17" Type="http://schemas.openxmlformats.org/officeDocument/2006/relationships/slideLayout" Target="../slideLayouts/slideLayout126.xml"/><Relationship Id="rId18" Type="http://schemas.openxmlformats.org/officeDocument/2006/relationships/slideLayout" Target="../slideLayouts/slideLayout127.xml"/><Relationship Id="rId19" Type="http://schemas.openxmlformats.org/officeDocument/2006/relationships/slideLayout" Target="../slideLayouts/slideLayout128.xml"/><Relationship Id="rId20" Type="http://schemas.openxmlformats.org/officeDocument/2006/relationships/slideLayout" Target="../slideLayouts/slideLayout129.xml"/><Relationship Id="rId21" Type="http://schemas.openxmlformats.org/officeDocument/2006/relationships/slideLayout" Target="../slideLayouts/slideLayout130.xml"/><Relationship Id="rId22" Type="http://schemas.openxmlformats.org/officeDocument/2006/relationships/slideLayout" Target="../slideLayouts/slideLayout131.xml"/><Relationship Id="rId2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97.xml"/><Relationship Id="rId13" Type="http://schemas.openxmlformats.org/officeDocument/2006/relationships/slideLayout" Target="../slideLayouts/slideLayout98.xml"/><Relationship Id="rId14" Type="http://schemas.openxmlformats.org/officeDocument/2006/relationships/slideLayout" Target="../slideLayouts/slideLayout99.xml"/><Relationship Id="rId15" Type="http://schemas.openxmlformats.org/officeDocument/2006/relationships/slideLayout" Target="../slideLayouts/slideLayout100.xml"/><Relationship Id="rId16" Type="http://schemas.openxmlformats.org/officeDocument/2006/relationships/slideLayout" Target="../slideLayouts/slideLayout101.xml"/><Relationship Id="rId17" Type="http://schemas.openxmlformats.org/officeDocument/2006/relationships/slideLayout" Target="../slideLayouts/slideLayout102.xml"/><Relationship Id="rId18" Type="http://schemas.openxmlformats.org/officeDocument/2006/relationships/slideLayout" Target="../slideLayouts/slideLayout103.xml"/><Relationship Id="rId19" Type="http://schemas.openxmlformats.org/officeDocument/2006/relationships/slideLayout" Target="../slideLayouts/slideLayout104.xml"/><Relationship Id="rId20" Type="http://schemas.openxmlformats.org/officeDocument/2006/relationships/slideLayout" Target="../slideLayouts/slideLayout105.xml"/><Relationship Id="rId21" Type="http://schemas.openxmlformats.org/officeDocument/2006/relationships/slideLayout" Target="../slideLayouts/slideLayout106.xml"/><Relationship Id="rId22" Type="http://schemas.openxmlformats.org/officeDocument/2006/relationships/slideLayout" Target="../slideLayouts/slideLayout107.xml"/><Relationship Id="rId2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27069A-C0EA-4CAB-8B28-6088D71E5D96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8"/>
          <p:cNvGrpSpPr/>
          <p:nvPr/>
        </p:nvGrpSpPr>
        <p:grpSpPr>
          <a:xfrm>
            <a:off x="2058480" y="376920"/>
            <a:ext cx="5033160" cy="3450600"/>
            <a:chOff x="2058480" y="376920"/>
            <a:chExt cx="5033160" cy="3450600"/>
          </a:xfrm>
        </p:grpSpPr>
        <p:sp>
          <p:nvSpPr>
            <p:cNvPr id="394" name="Rectangle 7"/>
            <p:cNvSpPr/>
            <p:nvPr/>
          </p:nvSpPr>
          <p:spPr>
            <a:xfrm rot="232200">
              <a:off x="2168280" y="535680"/>
              <a:ext cx="4813200" cy="312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95" name="Rectangle 8"/>
            <p:cNvGrpSpPr/>
            <p:nvPr/>
          </p:nvGrpSpPr>
          <p:grpSpPr>
            <a:xfrm>
              <a:off x="2058480" y="377280"/>
              <a:ext cx="5033160" cy="3450240"/>
              <a:chOff x="2058480" y="377280"/>
              <a:chExt cx="5033160" cy="3450240"/>
            </a:xfrm>
          </p:grpSpPr>
          <p:pic>
            <p:nvPicPr>
              <p:cNvPr id="396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2058480" y="379080"/>
                <a:ext cx="5032440" cy="34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 rot="231600">
                <a:off x="2168280" y="536040"/>
                <a:ext cx="4813200" cy="31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08B34-A7EE-405E-A1E0-6551E6D741FE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13"/>
          <p:cNvGrpSpPr/>
          <p:nvPr/>
        </p:nvGrpSpPr>
        <p:grpSpPr>
          <a:xfrm>
            <a:off x="114480" y="115920"/>
            <a:ext cx="3968640" cy="3705120"/>
            <a:chOff x="114480" y="115920"/>
            <a:chExt cx="3968640" cy="3705120"/>
          </a:xfrm>
        </p:grpSpPr>
        <p:sp>
          <p:nvSpPr>
            <p:cNvPr id="440" name="Rectangle 7"/>
            <p:cNvSpPr/>
            <p:nvPr/>
          </p:nvSpPr>
          <p:spPr>
            <a:xfrm rot="21420000">
              <a:off x="210600" y="219600"/>
              <a:ext cx="3777840" cy="3487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441" name="Rectangle 8"/>
            <p:cNvGrpSpPr/>
            <p:nvPr/>
          </p:nvGrpSpPr>
          <p:grpSpPr>
            <a:xfrm>
              <a:off x="114480" y="115920"/>
              <a:ext cx="3968640" cy="3705120"/>
              <a:chOff x="114480" y="115920"/>
              <a:chExt cx="3968640" cy="3705120"/>
            </a:xfrm>
          </p:grpSpPr>
          <p:pic>
            <p:nvPicPr>
              <p:cNvPr id="44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114480" y="115920"/>
                <a:ext cx="3968640" cy="37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 rot="21420000">
                <a:off x="210960" y="219600"/>
                <a:ext cx="3777840" cy="349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grpSp>
        <p:nvGrpSpPr>
          <p:cNvPr id="444" name="Group 9"/>
          <p:cNvGrpSpPr/>
          <p:nvPr/>
        </p:nvGrpSpPr>
        <p:grpSpPr>
          <a:xfrm>
            <a:off x="4165560" y="317160"/>
            <a:ext cx="4792680" cy="3461400"/>
            <a:chOff x="4165560" y="317160"/>
            <a:chExt cx="4792680" cy="3461400"/>
          </a:xfrm>
        </p:grpSpPr>
        <p:sp>
          <p:nvSpPr>
            <p:cNvPr id="445" name="Rectangle 10"/>
            <p:cNvSpPr/>
            <p:nvPr/>
          </p:nvSpPr>
          <p:spPr>
            <a:xfrm rot="360000">
              <a:off x="4326480" y="542520"/>
              <a:ext cx="4469760" cy="3002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446" name="Rectangle 11"/>
            <p:cNvGrpSpPr/>
            <p:nvPr/>
          </p:nvGrpSpPr>
          <p:grpSpPr>
            <a:xfrm>
              <a:off x="4165560" y="317160"/>
              <a:ext cx="4792680" cy="3461400"/>
              <a:chOff x="4165560" y="317160"/>
              <a:chExt cx="4792680" cy="3461400"/>
            </a:xfrm>
          </p:grpSpPr>
          <p:pic>
            <p:nvPicPr>
              <p:cNvPr id="447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165560" y="324000"/>
                <a:ext cx="4792680" cy="344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360000">
                <a:off x="4326120" y="542520"/>
                <a:ext cx="4469760" cy="301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1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2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3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ED997-AA03-45E3-B205-2AD723D33EB6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2"/>
    <p:sldLayoutId id="2147483780" r:id="rId13"/>
    <p:sldLayoutId id="2147483781" r:id="rId14"/>
    <p:sldLayoutId id="2147483782" r:id="rId15"/>
    <p:sldLayoutId id="2147483783" r:id="rId16"/>
    <p:sldLayoutId id="2147483784" r:id="rId17"/>
    <p:sldLayoutId id="2147483785" r:id="rId18"/>
    <p:sldLayoutId id="2147483786" r:id="rId19"/>
    <p:sldLayoutId id="2147483787" r:id="rId20"/>
    <p:sldLayoutId id="2147483788" r:id="rId21"/>
    <p:sldLayoutId id="2147483789" r:id="rId22"/>
    <p:sldLayoutId id="214748379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00360"/>
            <a:ext cx="19843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959280" y="6300360"/>
            <a:ext cx="381312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275320" y="6300360"/>
            <a:ext cx="685800" cy="2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71E9C-F129-4BFB-9D95-BEEE607B534D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99280"/>
            <a:ext cx="19810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962160" y="6299280"/>
            <a:ext cx="38098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264160" y="6311880"/>
            <a:ext cx="68580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99123-E5E9-4D12-8133-E97BAE13B215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4EB316-6E80-4FC5-9334-529DCF3D87C2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E856C-B65C-4217-9B8A-5E3AD5DD0F66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8"/>
          <p:cNvGrpSpPr/>
          <p:nvPr/>
        </p:nvGrpSpPr>
        <p:grpSpPr>
          <a:xfrm>
            <a:off x="654120" y="430920"/>
            <a:ext cx="5416560" cy="3660480"/>
            <a:chOff x="654120" y="430920"/>
            <a:chExt cx="5416560" cy="3660480"/>
          </a:xfrm>
        </p:grpSpPr>
        <p:sp>
          <p:nvSpPr>
            <p:cNvPr id="206" name="Rectangle 7"/>
            <p:cNvSpPr/>
            <p:nvPr/>
          </p:nvSpPr>
          <p:spPr>
            <a:xfrm rot="21240000">
              <a:off x="820800" y="687960"/>
              <a:ext cx="5076720" cy="313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207" name="Rectangle 8"/>
            <p:cNvGrpSpPr/>
            <p:nvPr/>
          </p:nvGrpSpPr>
          <p:grpSpPr>
            <a:xfrm>
              <a:off x="654120" y="430920"/>
              <a:ext cx="5416560" cy="3660480"/>
              <a:chOff x="654120" y="430920"/>
              <a:chExt cx="5416560" cy="3660480"/>
            </a:xfrm>
          </p:grpSpPr>
          <p:pic>
            <p:nvPicPr>
              <p:cNvPr id="208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120" y="444600"/>
                <a:ext cx="5416560" cy="363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240000">
                <a:off x="821520" y="687600"/>
                <a:ext cx="5076720" cy="314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A7F55-10D7-432B-9D93-6102DC94045F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Comparison-Underline.png"/>
          <p:cNvPicPr/>
          <p:nvPr/>
        </p:nvPicPr>
        <p:blipFill>
          <a:blip r:embed="rId3"/>
          <a:stretch/>
        </p:blipFill>
        <p:spPr>
          <a:xfrm>
            <a:off x="95724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Comparison-Underline.png"/>
          <p:cNvPicPr/>
          <p:nvPr/>
        </p:nvPicPr>
        <p:blipFill>
          <a:blip r:embed="rId4"/>
          <a:stretch/>
        </p:blipFill>
        <p:spPr>
          <a:xfrm>
            <a:off x="491652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Comparison-Underline.png"/>
          <p:cNvPicPr/>
          <p:nvPr/>
        </p:nvPicPr>
        <p:blipFill>
          <a:blip r:embed="rId5"/>
          <a:stretch/>
        </p:blipFill>
        <p:spPr>
          <a:xfrm>
            <a:off x="957240" y="1897200"/>
            <a:ext cx="3228840" cy="142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Comparison-Underline.png"/>
          <p:cNvPicPr/>
          <p:nvPr/>
        </p:nvPicPr>
        <p:blipFill>
          <a:blip r:embed="rId6"/>
          <a:stretch/>
        </p:blipFill>
        <p:spPr>
          <a:xfrm>
            <a:off x="4916520" y="1897200"/>
            <a:ext cx="3228840" cy="142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ECE2C-6D14-47CA-892A-28D5F0F797E9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7"/>
          <p:cNvGrpSpPr/>
          <p:nvPr/>
        </p:nvGrpSpPr>
        <p:grpSpPr>
          <a:xfrm>
            <a:off x="628200" y="506160"/>
            <a:ext cx="3852360" cy="5515560"/>
            <a:chOff x="628200" y="506160"/>
            <a:chExt cx="3852360" cy="5515560"/>
          </a:xfrm>
        </p:grpSpPr>
        <p:sp>
          <p:nvSpPr>
            <p:cNvPr id="297" name="Rectangle 7"/>
            <p:cNvSpPr/>
            <p:nvPr/>
          </p:nvSpPr>
          <p:spPr>
            <a:xfrm rot="21421200">
              <a:off x="764640" y="605520"/>
              <a:ext cx="3578040" cy="5299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298" name="Rectangle 8"/>
            <p:cNvGrpSpPr/>
            <p:nvPr/>
          </p:nvGrpSpPr>
          <p:grpSpPr>
            <a:xfrm>
              <a:off x="628200" y="506160"/>
              <a:ext cx="3852360" cy="5515560"/>
              <a:chOff x="628200" y="506160"/>
              <a:chExt cx="3852360" cy="5515560"/>
            </a:xfrm>
          </p:grpSpPr>
          <p:pic>
            <p:nvPicPr>
              <p:cNvPr id="299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628560" y="506520"/>
                <a:ext cx="3851280" cy="55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21200">
                <a:off x="765000" y="605880"/>
                <a:ext cx="3578040" cy="531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A89F2-D993-4E96-B9E5-EF65ADE5BC9F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13"/>
          <p:cNvGrpSpPr/>
          <p:nvPr/>
        </p:nvGrpSpPr>
        <p:grpSpPr>
          <a:xfrm>
            <a:off x="312480" y="3511440"/>
            <a:ext cx="4089600" cy="3043080"/>
            <a:chOff x="312480" y="3511440"/>
            <a:chExt cx="4089600" cy="3043080"/>
          </a:xfrm>
        </p:grpSpPr>
        <p:sp>
          <p:nvSpPr>
            <p:cNvPr id="343" name="Rectangle 7"/>
            <p:cNvSpPr/>
            <p:nvPr/>
          </p:nvSpPr>
          <p:spPr>
            <a:xfrm rot="21214200">
              <a:off x="461160" y="3714840"/>
              <a:ext cx="3787920" cy="2627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44" name="Rectangle 8"/>
            <p:cNvGrpSpPr/>
            <p:nvPr/>
          </p:nvGrpSpPr>
          <p:grpSpPr>
            <a:xfrm>
              <a:off x="312480" y="3511800"/>
              <a:ext cx="4089600" cy="3042720"/>
              <a:chOff x="312480" y="3511800"/>
              <a:chExt cx="4089600" cy="3042720"/>
            </a:xfrm>
          </p:grpSpPr>
          <p:pic>
            <p:nvPicPr>
              <p:cNvPr id="345" name="Rectangle 8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312480" y="3521160"/>
                <a:ext cx="4089240" cy="30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214200">
                <a:off x="461520" y="3715200"/>
                <a:ext cx="3787920" cy="263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grpSp>
        <p:nvGrpSpPr>
          <p:cNvPr id="347" name="Group 9"/>
          <p:cNvGrpSpPr/>
          <p:nvPr/>
        </p:nvGrpSpPr>
        <p:grpSpPr>
          <a:xfrm>
            <a:off x="169920" y="240840"/>
            <a:ext cx="4088160" cy="3026520"/>
            <a:chOff x="169920" y="240840"/>
            <a:chExt cx="4088160" cy="3026520"/>
          </a:xfrm>
        </p:grpSpPr>
        <p:sp>
          <p:nvSpPr>
            <p:cNvPr id="348" name="Rectangle 10"/>
            <p:cNvSpPr/>
            <p:nvPr/>
          </p:nvSpPr>
          <p:spPr>
            <a:xfrm rot="232200">
              <a:off x="267480" y="372240"/>
              <a:ext cx="3894120" cy="2758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oudy Old Style"/>
              </a:endParaRPr>
            </a:p>
          </p:txBody>
        </p:sp>
        <p:grpSp>
          <p:nvGrpSpPr>
            <p:cNvPr id="349" name="Rectangle 11"/>
            <p:cNvGrpSpPr/>
            <p:nvPr/>
          </p:nvGrpSpPr>
          <p:grpSpPr>
            <a:xfrm>
              <a:off x="169920" y="240840"/>
              <a:ext cx="4088160" cy="3026520"/>
              <a:chOff x="169920" y="240840"/>
              <a:chExt cx="4088160" cy="3026520"/>
            </a:xfrm>
          </p:grpSpPr>
          <p:pic>
            <p:nvPicPr>
              <p:cNvPr id="350" name="Rectangle 11" descr=""/>
              <p:cNvPicPr/>
              <p:nvPr/>
            </p:nvPicPr>
            <p:blipFill>
              <a:blip r:embed="rId4"/>
              <a:stretch/>
            </p:blipFill>
            <p:spPr>
              <a:xfrm rot="21599400">
                <a:off x="169920" y="241200"/>
                <a:ext cx="4087800" cy="30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 rot="231600">
                <a:off x="267120" y="372600"/>
                <a:ext cx="3894120" cy="276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oudy Old Style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173484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44964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86680" indent="-44316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217880" indent="-33084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3" marL="1548720" indent="-33084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4" marL="1879920" indent="-33084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5" marL="1879920" indent="-33084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6" marL="1879920" indent="-33084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7662960" y="6315120"/>
            <a:ext cx="12952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943080" y="630504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7521120" y="5476680"/>
            <a:ext cx="14828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2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C98F8-BC51-405B-91E7-F7C21E65446E}" type="slidenum">
              <a:rPr b="0" lang="en-US" sz="82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2"/>
    <p:sldLayoutId id="2147483754" r:id="rId13"/>
    <p:sldLayoutId id="2147483755" r:id="rId14"/>
    <p:sldLayoutId id="2147483756" r:id="rId15"/>
    <p:sldLayoutId id="2147483757" r:id="rId16"/>
    <p:sldLayoutId id="2147483758" r:id="rId17"/>
    <p:sldLayoutId id="2147483759" r:id="rId18"/>
    <p:sldLayoutId id="2147483760" r:id="rId19"/>
    <p:sldLayoutId id="2147483761" r:id="rId20"/>
    <p:sldLayoutId id="2147483762" r:id="rId21"/>
    <p:sldLayoutId id="2147483763" r:id="rId22"/>
    <p:sldLayoutId id="2147483764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LCorp_W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5040" y="6149880"/>
            <a:ext cx="7076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at Do All These Folks Have in Common?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668600" y="1647360"/>
            <a:ext cx="356688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Boniface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avid Brainerd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John and Charles Wesl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amuel Mill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nnie Armstrong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Lott Car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Robert Raike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Bishop William White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401800" y="1647360"/>
            <a:ext cx="356724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Hudson Taylor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postle Paul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Cameron Townsend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doniram Judson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Luther Rice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Jim Elliot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William Care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tephen Paxson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1830240" y="2004480"/>
            <a:ext cx="731376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class or small group look like if it demonstrated the seven elements found in Transformational Church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? 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ssionary Mental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brant Leadership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lational Intentional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ayerful Dependence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ship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30240" y="1653840"/>
            <a:ext cx="7313760" cy="416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does it mean to live your life on mission?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y is it important for Sunday School to be on mission? 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look like if it saw itself as a missionary enterprise: thinking and acting out of a missionary mindset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1422360" y="2192400"/>
            <a:ext cx="731376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One Mission that runs throughout the incredible story of the Sunday School movement is transformation (personal, church-wide, and cultural)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stack pole for the missionary Sunday School is His Story. The textbook is the Bible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very person at every age and stage of life should study the Bible for all of his or her life.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45680" y="6048000"/>
            <a:ext cx="635004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One Mission: Transform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830240" y="1335240"/>
            <a:ext cx="731376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e Than A Program—From Social Gospel to Social Evangeli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8-11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Missionary Valley Enterprise—A Horse Named Robert Raik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12-15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ooks and Libraries—From History to His St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pages 15-20).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6018120"/>
            <a:ext cx="7313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The Road to Missions</a:t>
            </a:r>
            <a:endParaRPr b="0" lang="en-US" sz="3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830240" y="1480680"/>
            <a:ext cx="7313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1: Utilize Bible study to equip the missionaries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2: Provide basic training to help the appointees to acknowledge, affirm, and embrace their identities as missionaries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3: Equip the missionaries to communicate the Bible—His Story—in the language of the people being reached (youth in this case and different youth people groups)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Step 4: Develop a Bible study plan for all of life (LifeSpan).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74880" y="604836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angelism vs. Nurture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2240" y="1418760"/>
            <a:ext cx="3200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pen Group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19160" y="2174760"/>
            <a:ext cx="356544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systematic study plan that engages students in the whole message of the Bible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open to both lost and saved students as well as students who may be inconsistent in attendance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ongoing Bible study plan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low level of commitment and accountability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foundational discipleship </a:t>
            </a:r>
            <a:endParaRPr b="0" lang="en-US" sz="17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51520" y="1418760"/>
            <a:ext cx="320040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D-Group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766760" y="2174760"/>
            <a:ext cx="356724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pecific study plan that addresses important discipleship emphase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designed more for the saved and growing student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short term Bible study plan that lasts 4-8 weeks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high level of commitment and accountability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80000"/>
              </a:lnSpc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advanced discipleship </a:t>
            </a:r>
            <a:endParaRPr b="0" lang="en-US" sz="19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93840" y="1943280"/>
            <a:ext cx="6950160" cy="397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Ignite your Sunday School for: </a:t>
            </a:r>
            <a:br>
              <a:rPr sz="4600"/>
            </a:b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Fueled by His Story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 Concerned about  </a:t>
            </a:r>
            <a:br>
              <a:rPr sz="4600"/>
            </a:br>
            <a:r>
              <a:rPr b="0" i="1" lang="en-US" sz="4600" spc="-1" strike="noStrike">
                <a:solidFill>
                  <a:srgbClr val="ffffff"/>
                </a:solidFill>
                <a:latin typeface="Arial"/>
                <a:ea typeface="Arial"/>
              </a:rPr>
              <a:t>         Every Person.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22:03Z</dcterms:created>
  <dc:creator>Dwayne Ulmer</dc:creator>
  <dc:description/>
  <dc:language>en-US</dc:language>
  <cp:lastModifiedBy>G. Dwayne McCrary</cp:lastModifiedBy>
  <dcterms:modified xsi:type="dcterms:W3CDTF">2011-12-02T12:46:28Z</dcterms:modified>
  <cp:revision>11</cp:revision>
  <dc:subject/>
  <dc:title>What Do All These Folks Have in Common</dc:title>
</cp:coreProperties>
</file>