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F82-3FA5-451C-851A-E883FC2F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88B-A621-4773-B2D0-9F24CDDF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65F-FC5E-4693-91B1-948EC66B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6C2-06C7-463E-9F5F-6BBB94899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398-E909-40C8-905D-75355208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509-9F0C-41C9-BAD5-939EED36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05E-606D-41EE-8654-F069E114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BC80-E4AC-4E37-9356-C569A7A6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A02-EEEB-4EDA-B661-8750E161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3CB7-7745-4F71-AD26-7EABA137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79D-D2BF-4BAE-89F3-6C7D3585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5BC-C044-414E-8C36-04D18746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7FD-CB9E-44DB-A01B-C4716469C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LCorp_K_logo"/>
          <p:cNvPicPr/>
          <p:nvPr/>
        </p:nvPicPr>
        <p:blipFill>
          <a:blip r:embed="rId1"/>
          <a:stretch/>
        </p:blipFill>
        <p:spPr>
          <a:xfrm>
            <a:off x="1177920" y="2525760"/>
            <a:ext cx="67867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304920"/>
            <a:ext cx="8839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would you rate your tea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br>
              <a:rPr sz="2400"/>
            </a:br>
            <a:r>
              <a:rPr b="1" i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I Tend to Teach for:</a:t>
            </a:r>
            <a:br>
              <a:rPr sz="3200"/>
            </a:b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nowledge            Understanding                 Application                Training missionari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entagon 5"/>
          <p:cNvSpPr/>
          <p:nvPr/>
        </p:nvSpPr>
        <p:spPr>
          <a:xfrm>
            <a:off x="457200" y="2209680"/>
            <a:ext cx="8458200" cy="609840"/>
          </a:xfrm>
          <a:custGeom>
            <a:avLst/>
            <a:gdLst>
              <a:gd name="textAreaLeft" fmla="*/ 0 w 8458200"/>
              <a:gd name="textAreaRight" fmla="*/ 8458560 w 84582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22" y="0"/>
                </a:lnTo>
                <a:lnTo>
                  <a:pt x="21600" y="10800"/>
                </a:lnTo>
                <a:lnTo>
                  <a:pt x="2082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350532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steps do you need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ake in order to move further to the righ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57200" y="2209680"/>
            <a:ext cx="8458200" cy="609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flecting on Your Adult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15998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28600" y="1143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would you rate your class on the scale below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2133720"/>
            <a:ext cx="228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rriculum Pla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6172200" y="21337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o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hatever We Cho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28600" y="36576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steps do you need to take to improve (move closer to the left) the ratings you just gave your adult Sunday School grou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entagon 8"/>
          <p:cNvSpPr/>
          <p:nvPr/>
        </p:nvSpPr>
        <p:spPr>
          <a:xfrm rot="10800000">
            <a:off x="2285640" y="2208960"/>
            <a:ext cx="3886200" cy="3049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entagon 9"/>
          <p:cNvSpPr/>
          <p:nvPr/>
        </p:nvSpPr>
        <p:spPr>
          <a:xfrm rot="10800000">
            <a:off x="2285640" y="2590560"/>
            <a:ext cx="3886200" cy="3045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entagon 10"/>
          <p:cNvSpPr/>
          <p:nvPr/>
        </p:nvSpPr>
        <p:spPr>
          <a:xfrm rot="10800000">
            <a:off x="2285640" y="2971440"/>
            <a:ext cx="3886200" cy="3049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53" y="0"/>
                </a:lnTo>
                <a:lnTo>
                  <a:pt x="21600" y="10800"/>
                </a:lnTo>
                <a:lnTo>
                  <a:pt x="20753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1"/>
          <p:cNvSpPr/>
          <p:nvPr/>
        </p:nvSpPr>
        <p:spPr>
          <a:xfrm rot="10800000">
            <a:off x="2285640" y="2208960"/>
            <a:ext cx="38862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12"/>
          <p:cNvSpPr/>
          <p:nvPr/>
        </p:nvSpPr>
        <p:spPr>
          <a:xfrm rot="10800000">
            <a:off x="2285640" y="2590560"/>
            <a:ext cx="3886200" cy="304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3"/>
          <p:cNvSpPr/>
          <p:nvPr/>
        </p:nvSpPr>
        <p:spPr>
          <a:xfrm rot="10800000">
            <a:off x="2285640" y="2971440"/>
            <a:ext cx="3886200" cy="304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52120" y="160020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828800" y="1752480"/>
            <a:ext cx="7010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d has placed each of you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unique contexts and cultures to lead an Adult Sunday School group for the purpose of expanding His kingdom and developing disciples who become missionar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140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No one’s story is complete until it has intersected with His Story which happens best in a community being enriched by the stories of others.” </a:t>
            </a:r>
            <a:br>
              <a:rPr sz="3700"/>
            </a:br>
            <a:r>
              <a:rPr b="1" i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i="1" lang="en-US" sz="2200" spc="-1" strike="noStrike">
                <a:solidFill>
                  <a:srgbClr val="632523"/>
                </a:solidFill>
                <a:latin typeface="Arial"/>
                <a:ea typeface="Arial"/>
              </a:rPr>
              <a:t>—Missionary Sunday School </a:t>
            </a:r>
            <a:r>
              <a:rPr b="1" lang="en-US" sz="2200" spc="-1" strike="noStrike">
                <a:solidFill>
                  <a:srgbClr val="632523"/>
                </a:solidFill>
                <a:latin typeface="Arial"/>
                <a:ea typeface="Arial"/>
              </a:rPr>
              <a:t>(p. 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46748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addition to God’s Word, one leader resource that I depend on for my preparation is: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Our Bible study groups us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Learner Guide to: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Our best Bible study happens when: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5120" y="20574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Make a nametag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Introduce yourself to another person, telling them why you enjoy teaching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Arial"/>
              </a:rPr>
              <a:t>Get ready to go on a journey with the Missionary Sunday School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52480" y="17521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y hope is that this book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ll be sufficient to motivate your class or group to want to start thinking like missionaries and to provide some ideas for beginning that exciting journey.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vid Fran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3809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ircle words and phrases that indicate Philip was engaging in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ssionary activity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1523880"/>
            <a:ext cx="858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32523"/>
                </a:solidFill>
                <a:latin typeface="Arial"/>
                <a:ea typeface="Arial"/>
              </a:rPr>
              <a:t>Reliving an Exciting </a:t>
            </a:r>
            <a:br>
              <a:rPr sz="4400"/>
            </a:br>
            <a:r>
              <a:rPr b="1" i="1" lang="en-US" sz="4400" spc="-1" strike="noStrike">
                <a:solidFill>
                  <a:srgbClr val="632523"/>
                </a:solidFill>
                <a:latin typeface="Arial"/>
                <a:ea typeface="Arial"/>
              </a:rPr>
              <a:t>Missionary Momen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2381400" y="3048120"/>
            <a:ext cx="48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ad Acts 8:26-40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5943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32523"/>
                </a:solidFill>
                <a:latin typeface="Arial"/>
                <a:ea typeface="Arial"/>
              </a:rPr>
              <a:t>Questions from Acts 8:26-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00200" y="159984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perception of the Ethiopian eunuch in this sto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What is your perception of Philip in this sto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 Philip’s actions motivate you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o think more like a Sunday School missionar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does this encounter from Scriptur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nable you to see Adult Sunday School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 more of a “movement” rather than a program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623440" y="64641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99840" y="19051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One Mission that runs through the remarkable history of the Sunday School movement is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orm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rsonal spiritual transformation, transformation of churches, and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ltural transformation in the communities surrounding them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Missionary Sunday School, pages 6-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8623440" y="648972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32523"/>
                </a:solidFill>
                <a:latin typeface="Arial"/>
                <a:ea typeface="Arial"/>
              </a:rPr>
              <a:t>Who are the Champions</a:t>
            </a:r>
            <a:br>
              <a:rPr sz="5400"/>
            </a:br>
            <a:r>
              <a:rPr b="1" lang="en-US" sz="5400" spc="-1" strike="noStrike">
                <a:solidFill>
                  <a:srgbClr val="632523"/>
                </a:solidFill>
                <a:latin typeface="Arial"/>
                <a:ea typeface="Arial"/>
              </a:rPr>
              <a:t>in Sunday School History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8623440" y="64641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8623440" y="64641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828800" y="1371600"/>
            <a:ext cx="70102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) Robert Raikes (p. 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2) Sunday School in Urban America-Bishop William Whi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p.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3) From Social Gospel to Social Evangelism (John Wesley)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ississippi Valley Enterprise (Francis Scott Key), and Sunday School Missionaries (pp. 12-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4) Fast Forward to Today: Motorcycle Sunday Schools, Sidewalk Sunday Schools &amp; More! (pp. 12-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5) Stephen Paxson: Sunday School Missionary (pp. 13-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6) Books and Libraries, Sunday to Weekday, and Schools to Churches (pp. 15-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7) the Sunday School Man (p. 17)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2:47Z</dcterms:created>
  <dc:creator>KEN LUPTON</dc:creator>
  <dc:description/>
  <dc:language>en-US</dc:language>
  <cp:lastModifiedBy>G. Dwayne McCrary</cp:lastModifiedBy>
  <dcterms:modified xsi:type="dcterms:W3CDTF">2011-12-02T12:45:26Z</dcterms:modified>
  <cp:revision>42</cp:revision>
  <dc:subject/>
  <dc:title>Slide 1</dc:title>
</cp:coreProperties>
</file>