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57C-3844-45F4-80D6-6E557B567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0EE-2972-4CF4-BA60-463595B1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6DD-DF08-4FFE-AF23-8AD0A78B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02D-0317-4B37-B5BD-E0E78EFF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D0B-6C1E-4C8F-8284-EC066C98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B25-2726-4C2D-8B08-F5B8F7F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B4C-314F-474D-8CFB-2B50A91C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2ABE-AFFD-418F-978A-82C57813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76C-44F2-4B08-A4A4-BFF2F237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52DB-2B41-4D02-B6A4-A5E1AE7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1B0-5FD2-435C-AA76-EAB757CA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194-97D3-4292-B130-CA98FF24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1810-BEE5-48E7-A94A-51652F0C38CB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Corp_W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learning about th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Arial"/>
                <a:ea typeface="Arial"/>
              </a:rPr>
              <a:t>preschool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do we put it all toge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TTING IT ALL TOGETH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181480" y="1295280"/>
            <a:ext cx="1870200" cy="2438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6858000" y="380880"/>
            <a:ext cx="1676520" cy="2602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1914480" cy="25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1600200" y="3200400"/>
            <a:ext cx="1914480" cy="256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53341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Mis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s Sto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 pers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Make an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I’m a Missionary”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name tag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334120" y="22096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e Mis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is Sto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 pers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219320" y="13716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What might a Sunday School look like if it saw itself as a missionary enterprise: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thinking and acting out of a missionary mindset?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144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What is it in our service as a preschool leader that . . .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  <a:ea typeface="Arial"/>
              </a:rPr>
              <a:t>is worth the doing?  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3712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he Missionary Sunday School has One Mission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. . . the centerpiece of the Sunday School movement is Bible study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orp red_wndo"/>
          <p:cNvPicPr/>
          <p:nvPr/>
        </p:nvPicPr>
        <p:blipFill>
          <a:blip r:embed="rId1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Biblic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572000" y="1752480"/>
            <a:ext cx="41148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ording to God's grace that was given to me, I have laid a foundation as a skilled master builder, and another builds on it. But each one must be careful how he builds on it.”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Corinthians 3:10, HCSB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" name="Picture 4" descr="LL"/>
          <p:cNvPicPr/>
          <p:nvPr/>
        </p:nvPicPr>
        <p:blipFill>
          <a:blip r:embed="rId1"/>
          <a:stretch/>
        </p:blipFill>
        <p:spPr>
          <a:xfrm>
            <a:off x="1752480" y="2133720"/>
            <a:ext cx="235296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6:20:40Z</dcterms:created>
  <dc:creator>AEDWARD</dc:creator>
  <dc:description/>
  <dc:language>en-US</dc:language>
  <cp:lastModifiedBy>G. Dwayne McCrary</cp:lastModifiedBy>
  <dcterms:modified xsi:type="dcterms:W3CDTF">2011-12-02T12:44:58Z</dcterms:modified>
  <cp:revision>165</cp:revision>
  <dc:subject/>
  <dc:title>How-to Sunday School Guide: Curriculum Workshop for Preschool Leaders</dc:title>
</cp:coreProperties>
</file>