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E6FB-854E-4278-9ABC-5B934A5E2D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2B22-1E53-41DA-8BF6-ABB5E80E9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7ECF-AF3A-42C4-A8D2-61FB60EDB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809C-BAB8-45A4-B578-E3C1C9BBC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AD4C-A5B8-4289-B93B-D49B29E0E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3619-DEB4-4551-9A96-45E9F3742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FA02-D981-4754-9AF4-561C7038E9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51B7-F2E0-40A4-B117-E47E7BCD26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D848-38B2-4125-B5A6-19072864A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CB69-8FD5-4410-88C1-DB88199A6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985B-56FD-456C-B0E9-91C46D39B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24D9-868E-4252-AF42-0FE3E51A1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D7E8-2FB9-40FA-87E1-54245F5AB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6293-62C0-4FE2-BA14-34A675F868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649C-69A4-40DC-AFE2-B2D8ABDCF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17A9-BD47-4823-B37E-0F62E9D8A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F285-6ED7-4EE2-B17F-30A14FCA2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23CB-BB43-43A3-8851-3F3846B61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6448-EBAB-4E3D-A61F-DE2192814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6AC-DE89-42B9-8531-D18846E9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DC8-0C07-4FAE-8189-2ADBD732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41F9-25B3-42DD-84CC-23904941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02D-2918-4EBC-BBFA-EF1DA5DB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E99-A22A-4376-8D12-561EDD86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667B-24EC-4151-BCB7-19FE04F3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996-6835-4288-B6E7-A5852BC9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F6E-1662-4538-BEAC-7A47A773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8138-1ECC-4E7B-8B36-C4509A33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85C-6D22-41FB-A45E-18A405FB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DD2-F8C5-42BA-8608-A1F3B6D5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96B-7393-4CCB-A70A-A2190CA6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0BDF-D455-4312-9F23-3A53889A8CB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C3C6-A780-4C08-8448-FE22770889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Corp_K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371600"/>
            <a:ext cx="1905120" cy="60948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990720" y="1523880"/>
            <a:ext cx="8153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Rate your class on these three elements using the scale below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____________________________________________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going_________________________________________Short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atic Plan__________________________________ What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What steps do you need to take to improve (move closer to the left) the ratings you gave your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In the past six months, who has made a commitment to Christ as a result of the work being done by or through your class or class memb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How would you describe the teaching that takes place in your class: for knowledge or for training missionaries? Give an example from the past two weeks to illustr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Record an example of how the study of the Bible made a difference in the life of a person in your class, in your church, and in your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What can be done to make these outcomes more consist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743200" y="2133720"/>
            <a:ext cx="464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very Pers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Missionary Principle of the Peopl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295280" y="2209680"/>
            <a:ext cx="769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ions challenging the idea that  Sunday School is for Every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ur Kids and Those K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igious Education is the Responsibility of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t Little House on the Prai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3048120" y="2057400"/>
            <a:ext cx="3962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My People Group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752480" y="1398600"/>
            <a:ext cx="6934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oadblocks does your class or church face when it comes to having a group for everyone in your community? What actions can you take to help remove those roadblock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ools are currently in place for your class or church to utilize as a missionary? What tools do you need to help secu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 in your community is not currently being reached by your church? Commit to pray that God will help your church start a Bible study group that will reach them for the sake of Chr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uld God need to do so your class could establish a new group for a UPG in your commun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would God need to do to make your class a center for sending missionaries to other groups (preschool, children, student, and other adult groups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1523880" y="1676520"/>
            <a:ext cx="762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of the                                    Missionary Sunda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r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inted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isitation with Literature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arting New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981080" y="2057400"/>
            <a:ext cx="6248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The Irreducible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The Law of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Flake’s Formula Still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The Principle of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3x5=18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An Expanding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The Two-Year Princ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</a:rPr>
              <a:t>Tw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1523880" y="1676520"/>
            <a:ext cx="7620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of the                                    Missionary Sunda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r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inted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isitation with Literature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arting New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ultiple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2057400" y="220968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32523"/>
                </a:solidFill>
                <a:latin typeface="Arial"/>
              </a:rPr>
              <a:t>The Challen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unday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nreached People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13"/>
          <p:cNvSpPr/>
          <p:nvPr/>
        </p:nvSpPr>
        <p:spPr>
          <a:xfrm>
            <a:off x="5715000" y="3429000"/>
            <a:ext cx="2286000" cy="205740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"/>
          <p:cNvSpPr/>
          <p:nvPr/>
        </p:nvSpPr>
        <p:spPr>
          <a:xfrm>
            <a:off x="3048120" y="1066680"/>
            <a:ext cx="2286000" cy="205740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990720" y="3505320"/>
            <a:ext cx="2286000" cy="2057400"/>
          </a:xfrm>
          <a:prstGeom prst="ellipse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Oval 5"/>
          <p:cNvGrpSpPr/>
          <p:nvPr/>
        </p:nvGrpSpPr>
        <p:grpSpPr>
          <a:xfrm>
            <a:off x="4784760" y="743040"/>
            <a:ext cx="1403280" cy="1257120"/>
            <a:chOff x="4784760" y="743040"/>
            <a:chExt cx="1403280" cy="1257120"/>
          </a:xfrm>
        </p:grpSpPr>
        <p:pic>
          <p:nvPicPr>
            <p:cNvPr id="53" name="Oval 5" descr=""/>
            <p:cNvPicPr/>
            <p:nvPr/>
          </p:nvPicPr>
          <p:blipFill>
            <a:blip r:embed="rId1"/>
            <a:stretch/>
          </p:blipFill>
          <p:spPr>
            <a:xfrm>
              <a:off x="4784760" y="743040"/>
              <a:ext cx="140328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002200" y="9399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Box 6"/>
          <p:cNvSpPr/>
          <p:nvPr/>
        </p:nvSpPr>
        <p:spPr>
          <a:xfrm>
            <a:off x="4800600" y="10666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ssio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nt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Oval 7"/>
          <p:cNvGrpSpPr/>
          <p:nvPr/>
        </p:nvGrpSpPr>
        <p:grpSpPr>
          <a:xfrm>
            <a:off x="895320" y="2803680"/>
            <a:ext cx="1409760" cy="1250640"/>
            <a:chOff x="895320" y="2803680"/>
            <a:chExt cx="1409760" cy="1250640"/>
          </a:xfrm>
        </p:grpSpPr>
        <p:pic>
          <p:nvPicPr>
            <p:cNvPr id="57" name="Oval 7" descr=""/>
            <p:cNvPicPr/>
            <p:nvPr/>
          </p:nvPicPr>
          <p:blipFill>
            <a:blip r:embed="rId2"/>
            <a:stretch/>
          </p:blipFill>
          <p:spPr>
            <a:xfrm>
              <a:off x="895320" y="2803680"/>
              <a:ext cx="1409760" cy="12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116000" y="2997360"/>
              <a:ext cx="9684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Oval 8"/>
          <p:cNvGrpSpPr/>
          <p:nvPr/>
        </p:nvGrpSpPr>
        <p:grpSpPr>
          <a:xfrm>
            <a:off x="665280" y="5010120"/>
            <a:ext cx="1412640" cy="1257480"/>
            <a:chOff x="665280" y="5010120"/>
            <a:chExt cx="1412640" cy="1257480"/>
          </a:xfrm>
        </p:grpSpPr>
        <p:pic>
          <p:nvPicPr>
            <p:cNvPr id="60" name="Oval 8" descr=""/>
            <p:cNvPicPr/>
            <p:nvPr/>
          </p:nvPicPr>
          <p:blipFill>
            <a:blip r:embed="rId3"/>
            <a:stretch/>
          </p:blipFill>
          <p:spPr>
            <a:xfrm>
              <a:off x="665280" y="5010120"/>
              <a:ext cx="1412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88740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Oval 9"/>
          <p:cNvGrpSpPr/>
          <p:nvPr/>
        </p:nvGrpSpPr>
        <p:grpSpPr>
          <a:xfrm>
            <a:off x="2724120" y="4552920"/>
            <a:ext cx="1409760" cy="1257480"/>
            <a:chOff x="2724120" y="4552920"/>
            <a:chExt cx="1409760" cy="1257480"/>
          </a:xfrm>
        </p:grpSpPr>
        <p:pic>
          <p:nvPicPr>
            <p:cNvPr id="63" name="Oval 9" descr=""/>
            <p:cNvPicPr/>
            <p:nvPr/>
          </p:nvPicPr>
          <p:blipFill>
            <a:blip r:embed="rId4"/>
            <a:stretch/>
          </p:blipFill>
          <p:spPr>
            <a:xfrm>
              <a:off x="2724120" y="4552920"/>
              <a:ext cx="14097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944800" y="47498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Oval 10"/>
          <p:cNvGrpSpPr/>
          <p:nvPr/>
        </p:nvGrpSpPr>
        <p:grpSpPr>
          <a:xfrm>
            <a:off x="5315040" y="2724120"/>
            <a:ext cx="1409760" cy="1257480"/>
            <a:chOff x="5315040" y="2724120"/>
            <a:chExt cx="1409760" cy="1257480"/>
          </a:xfrm>
        </p:grpSpPr>
        <p:pic>
          <p:nvPicPr>
            <p:cNvPr id="66" name="Oval 10" descr=""/>
            <p:cNvPicPr/>
            <p:nvPr/>
          </p:nvPicPr>
          <p:blipFill>
            <a:blip r:embed="rId5"/>
            <a:stretch/>
          </p:blipFill>
          <p:spPr>
            <a:xfrm>
              <a:off x="5315040" y="2724120"/>
              <a:ext cx="14097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35720" y="2921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Oval 11"/>
          <p:cNvGrpSpPr/>
          <p:nvPr/>
        </p:nvGrpSpPr>
        <p:grpSpPr>
          <a:xfrm>
            <a:off x="5772240" y="5010120"/>
            <a:ext cx="1409760" cy="1257480"/>
            <a:chOff x="5772240" y="5010120"/>
            <a:chExt cx="1409760" cy="1257480"/>
          </a:xfrm>
        </p:grpSpPr>
        <p:pic>
          <p:nvPicPr>
            <p:cNvPr id="69" name="Oval 11" descr=""/>
            <p:cNvPicPr/>
            <p:nvPr/>
          </p:nvPicPr>
          <p:blipFill>
            <a:blip r:embed="rId6"/>
            <a:stretch/>
          </p:blipFill>
          <p:spPr>
            <a:xfrm>
              <a:off x="5772240" y="5010120"/>
              <a:ext cx="140976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5992920" y="52070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Oval 12"/>
          <p:cNvGrpSpPr/>
          <p:nvPr/>
        </p:nvGrpSpPr>
        <p:grpSpPr>
          <a:xfrm>
            <a:off x="7143840" y="2955960"/>
            <a:ext cx="1409760" cy="1251000"/>
            <a:chOff x="7143840" y="2955960"/>
            <a:chExt cx="1409760" cy="1251000"/>
          </a:xfrm>
        </p:grpSpPr>
        <p:pic>
          <p:nvPicPr>
            <p:cNvPr id="72" name="Oval 12" descr=""/>
            <p:cNvPicPr/>
            <p:nvPr/>
          </p:nvPicPr>
          <p:blipFill>
            <a:blip r:embed="rId7"/>
            <a:stretch/>
          </p:blipFill>
          <p:spPr>
            <a:xfrm>
              <a:off x="7143840" y="2955960"/>
              <a:ext cx="140976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7364520" y="3149640"/>
              <a:ext cx="9684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3200400" y="1600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c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1143000" y="4038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g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10666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o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685800" y="54864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2971800" y="4952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9"/>
          <p:cNvSpPr/>
          <p:nvPr/>
        </p:nvSpPr>
        <p:spPr>
          <a:xfrm>
            <a:off x="5181480" y="2935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l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ention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0"/>
          <p:cNvSpPr/>
          <p:nvPr/>
        </p:nvSpPr>
        <p:spPr>
          <a:xfrm>
            <a:off x="7162920" y="320040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ibr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1"/>
          <p:cNvSpPr/>
          <p:nvPr/>
        </p:nvSpPr>
        <p:spPr>
          <a:xfrm>
            <a:off x="5562720" y="5334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ayer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2"/>
          <p:cNvSpPr/>
          <p:nvPr/>
        </p:nvSpPr>
        <p:spPr>
          <a:xfrm>
            <a:off x="5791320" y="4038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mb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6248520" y="4572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Missionary Sunday School Starts 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4"/>
          <p:cNvCxnSpPr>
            <a:endCxn id="55" idx="0"/>
          </p:cNvCxnSpPr>
          <p:nvPr/>
        </p:nvCxnSpPr>
        <p:spPr>
          <a:xfrm flipH="1">
            <a:off x="5485680" y="609480"/>
            <a:ext cx="76284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5" name="Picture 5" descr="corp blk_wndo"/>
          <p:cNvPicPr/>
          <p:nvPr/>
        </p:nvPicPr>
        <p:blipFill>
          <a:blip r:embed="rId8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083320" y="2209680"/>
            <a:ext cx="6578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Missionary Sunday Sch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all abou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e 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ry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5"/>
          <p:cNvSpPr/>
          <p:nvPr/>
        </p:nvSpPr>
        <p:spPr>
          <a:xfrm>
            <a:off x="2514600" y="25909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One Mis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5347440" y="1295280"/>
            <a:ext cx="291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bert Ra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038480" y="22860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nday School in Urban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743200" y="3733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nday School missionaries and Stephen Pax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828800" y="990720"/>
            <a:ext cx="66294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id the church you attend (or lead) get started? What were the circumstances? How does that impact what your church is toda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es your class or Sunday School organization reflect a missionary mental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your class or Sunday School organization doing to become a more effective missiona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your class or Sunday School organization doing to model being a missionary to others? What have you done in the past three months that declares you are a missiona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your class or Sunday School organization doing to become a more effective missionar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your class or Sunday School organization doing to model for other classes what it means to be a missionary Sunday School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679400" y="2362320"/>
            <a:ext cx="6387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s Story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ll the Bible for All of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600200" y="1371600"/>
            <a:ext cx="6400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ible is the textbook of the Sunday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about all the Bible for all of lif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follows a pl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is done on purpos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9:13:21Z</dcterms:created>
  <dc:creator>G. Dwayne McCrary</dc:creator>
  <dc:description/>
  <dc:language>en-US</dc:language>
  <cp:lastModifiedBy>LifeWay Christian Resources</cp:lastModifiedBy>
  <dcterms:modified xsi:type="dcterms:W3CDTF">2011-11-21T16:19:56Z</dcterms:modified>
  <cp:revision>85</cp:revision>
  <dc:subject/>
  <dc:title>Slide 1</dc:title>
</cp:coreProperties>
</file>