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CB53-0E6A-45FC-BA30-0F5FF3628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375A-0161-4D52-8BFC-3FF071063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7A20-0FF7-4F67-A56B-E729D1612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9F8E-80EA-4726-AC98-3A4A75615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6331-B7FE-45B5-87BF-63DA89AFA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242C-0604-4660-9698-B7F513DDB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6B50-1FFF-46BC-8E16-73F2A3161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8C4A-E77A-4831-8ADD-F3277223B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2131-4F51-4498-B5F0-D32300D1C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9B00-C180-4C03-BA9F-6406D27A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6CAD-6AE7-4A41-8847-922ABD7F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702A-5A18-42DF-A4F5-35837241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DCA572-A6B0-4544-BEB5-EAFBC2D0D0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6T18:41:20Z</dcterms:created>
  <dc:creator>Edward Crawford</dc:creator>
  <dc:description/>
  <dc:language>en-US</dc:language>
  <cp:lastModifiedBy>Amy Lyon</cp:lastModifiedBy>
  <dcterms:modified xsi:type="dcterms:W3CDTF">2021-05-05T00:32:44Z</dcterms:modified>
  <cp:revision>33</cp:revision>
  <dc:subject/>
  <dc:title>PowerPoint Presentation</dc:title>
</cp:coreProperties>
</file>